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4.png" ContentType="image/png"/>
  <Override PartName="/ppt/media/image6.png" ContentType="image/png"/>
  <Override PartName="/ppt/media/image4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2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0.png" ContentType="image/png"/>
  <Override PartName="/ppt/media/image43.png" ContentType="image/png"/>
  <Override PartName="/ppt/media/image53.jpeg" ContentType="image/jpeg"/>
  <Override PartName="/ppt/media/image52.jpeg" ContentType="image/jpeg"/>
  <Override PartName="/ppt/media/image14.jpeg" ContentType="image/jpeg"/>
  <Override PartName="/ppt/media/image41.png" ContentType="image/png"/>
  <Override PartName="/ppt/media/image48.jpeg" ContentType="image/jpeg"/>
  <Override PartName="/ppt/media/image38.jpeg" ContentType="image/jpeg"/>
  <Override PartName="/ppt/media/image54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5.png" ContentType="image/png"/>
  <Override PartName="/ppt/media/image31.jpeg" ContentType="image/jpeg"/>
  <Override PartName="/ppt/media/image30.jpeg" ContentType="image/jpeg"/>
  <Override PartName="/ppt/media/image8.png" ContentType="image/png"/>
  <Override PartName="/ppt/media/image39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BEF0B2A-BE5C-423D-9DDA-5A21BBAB4362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3 Marcador de número de diapositiva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1D7115A-4A10-4F86-A6B3-95FCE1347A45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95C-F9E5-419B-9C3C-C6168A90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696-5071-444B-953E-33101ADC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FCA-A0E9-4126-847F-82B0EFD4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F2E-74FE-4D58-90AC-27EF8B76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085-3A45-47D3-93D8-B57E8F39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244-1049-4BF4-9083-1ECC71B0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6656-D980-47A0-B7BC-70EC4A89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E77-05BF-402E-A882-61DA51DA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831-3AAA-4BE7-AD91-B3B8DF55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566-424C-465A-BD33-C55FCB02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84D-A3A9-4C6D-BCB8-0C26E42C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E9F-AB32-4CF4-892B-931EEA68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9356-F1E0-4A74-8535-FF07193B6938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static.consumer.es/verduras/imgs/fotografias/1conozcamos/02.jpg&amp;imgrefurl=http://verduras.consumer.es/documentos/conozcamos/imprimir.php&amp;usg=__TMv8d34NeiVGDqK-i1jYFvbzcrQ=&amp;h=205&amp;w=161&amp;sz=20&amp;hl=es&amp;start=79&amp;tbnid=NKAWpMOAKhfKkM:&amp;tbnh=105&amp;tbnw=82&amp;prev=/images%3Fq%3Dclasificacion%2Bde%2Bvitaminas%2Bhidrosolubles%26gbv%3D2%26ndsp%3D18%26hl%3Des%26sa%3DN%26start%3D72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images.google.com.ar/imgres?imgurl=http://www.alimentacion-sana.com.ar/Portal%2520nuevo/imagenesplanillas/originales2/sesamo.jpg&amp;imgrefurl=http://neoalimentossalud.zoomblog.com/cat/10674&amp;usg=__mydMJC4nBhbw6-QS-wiGdXjU7vo=&amp;h=264&amp;w=280&amp;sz=54&amp;hl=es&amp;start=73&amp;tbnid=U-crGy6oi5nczM:&amp;tbnh=107&amp;tbnw=114&amp;prev=/images%3Fq%3Dclasificacion%2Bde%2Bvitaminas%2Bhidrosolubles%26gbv%3D2%26ndsp%3D18%26hl%3Des%26sa%3DN%26start%3D72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images.google.com.ar/imgres?imgurl=http://usuarios3.arsystel.com/alesales/making-plastic-using-vitamin-c_9.jpg&amp;imgrefurl=http://diabetesstop.wordpress.com/page/5/&amp;usg=__ybIEIEPD67E5FkpLu_SxXPjpKws=&amp;h=314&amp;w=300&amp;sz=10&amp;hl=es&amp;start=80&amp;tbnid=faG42C0LHvf3hM:&amp;tbnh=117&amp;tbnw=112&amp;prev=/images%3Fq%3Dclasificacion%2Bde%2Bvitaminas%2Bhidrosolubles%26gbv%3D2%26ndsp%3D18%26hl%3Des%26sa%3DN%26start%3D72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images.google.com.ar/imgres?imgurl=http://www.granjasdeluruguay.com.uy/materiales/verduras-00.jpg&amp;imgrefurl=http://www.granjasdeluruguay.com.uy/Propiedades-de-las-verduras.html&amp;usg=__W4z5JteRrifrfRGRwkCA7bGr8PE=&amp;h=233&amp;w=384&amp;sz=32&amp;hl=es&amp;start=49&amp;tbnid=CcgQhy2MHcUoBM:&amp;tbnh=75&amp;tbnw=123&amp;prev=/images%3Fq%3Dclasificacion%2Bde%2Bvitaminas%2Bhidrosolubles%26gbv%3D2%26ndsp%3D18%26hl%3Des%26sa%3DN%26start%3D36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images.google.com.ar/imgres?imgurl=http://www.mygomera.de/fotos/04-09-17_fischer/pescados_800.jpg&amp;imgrefurl=http://yalearaujo7.blogspot.com/&amp;usg=__kwOEVNQdhwhrd0I-1UkxtWCrYYU=&amp;h=600&amp;w=800&amp;sz=102&amp;hl=es&amp;start=128&amp;tbnid=I4KwKBNfdBz16M:&amp;tbnh=107&amp;tbnw=143&amp;prev=/images%3Fq%3Dclasificacion%2Bde%2Bvitaminas%2Bhidrosolubles%26gbv%3D2%26ndsp%3D18%26hl%3Des%26sa%3DN%26start%3D126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images.google.com.ar/imgres?imgurl=http://bp2.blogger.com/_EVfrzn4abyg/SIPwI-QeI5I/AAAAAAAAABE/iRWTloSv40U/s400/69.jpg&amp;imgrefurl=http://malenapharma.blogspot.com/2008/07/la-importancia-de-la-vitaminas.html&amp;usg=__viD838fHh3iEx4OfuUNO9kp5PG0=&amp;h=113&amp;w=150&amp;sz=4&amp;hl=es&amp;start=225&amp;tbnid=bHH-147IeshnpM:&amp;tbnh=72&amp;tbnw=96&amp;prev=/images%3Fq%3Dclasificacion%2Bde%2Bvitaminas%2Bhidrosolubles%26gbv%3D2%26ndsp%3D18%26hl%3Des%26sa%3DN%26start%3D216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www.granjasdeluruguay.com.uy/materiales/verduras-00.jpg&amp;imgrefurl=http://www.granjasdeluruguay.com.uy/Propiedades-de-las-verduras.html&amp;usg=__W4z5JteRrifrfRGRwkCA7bGr8PE=&amp;h=233&amp;w=384&amp;sz=32&amp;hl=es&amp;start=49&amp;tbnid=CcgQhy2MHcUoBM:&amp;tbnh=75&amp;tbnw=123&amp;prev=/images%3Fq%3Dclasificacion%2Bde%2Bvitaminas%2Bhidrosolubles%26gbv%3D2%26ndsp%3D18%26hl%3Des%26sa%3DN%26start%3D36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hyperlink" Target="http://images.google.com.ar/imgres?imgurl=http://www.granjasdeluruguay.com.uy/materiales/verduras-00.jpg&amp;imgrefurl=http://www.granjasdeluruguay.com.uy/Propiedades-de-las-verduras.html&amp;usg=__W4z5JteRrifrfRGRwkCA7bGr8PE=&amp;h=233&amp;w=384&amp;sz=32&amp;hl=es&amp;start=49&amp;tbnid=CcgQhy2MHcUoBM:&amp;tbnh=75&amp;tbnw=123&amp;prev=/images%3Fq%3Dclasificacion%2Bde%2Bvitaminas%2Bhidrosolubles%26gbv%3D2%26ndsp%3D18%26hl%3Des%26sa%3DN%26start%3D36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static.consumer.es/verduras/imgs/fotografias/1conozcamos/02.jpg&amp;imgrefurl=http://verduras.consumer.es/documentos/conozcamos/imprimir.php&amp;usg=__TMv8d34NeiVGDqK-i1jYFvbzcrQ=&amp;h=205&amp;w=161&amp;sz=20&amp;hl=es&amp;start=79&amp;tbnid=NKAWpMOAKhfKkM:&amp;tbnh=105&amp;tbnw=82&amp;prev=/images%3Fq%3Dclasificacion%2Bde%2Bvitaminas%2Bhidrosolubles%26gbv%3D2%26ndsp%3D18%26hl%3Des%26sa%3DN%26start%3D72" TargetMode="External"/><Relationship Id="rId2" Type="http://schemas.openxmlformats.org/officeDocument/2006/relationships/image" Target="../media/image52.jpeg"/><Relationship Id="rId3" Type="http://schemas.openxmlformats.org/officeDocument/2006/relationships/hyperlink" Target="http://images.google.com.ar/imgres?imgurl=http://www.alimentacion-sana.com.ar/Portal%2520nuevo/imagenesplanillas/originales2/sesamo.jpg&amp;imgrefurl=http://neoalimentossalud.zoomblog.com/cat/10674&amp;usg=__mydMJC4nBhbw6-QS-wiGdXjU7vo=&amp;h=264&amp;w=280&amp;sz=54&amp;hl=es&amp;start=73&amp;tbnid=U-crGy6oi5nczM:&amp;tbnh=107&amp;tbnw=114&amp;prev=/images%3Fq%3Dclasificacion%2Bde%2Bvitaminas%2Bhidrosolubles%26gbv%3D2%26ndsp%3D18%26hl%3Des%26sa%3DN%26start%3D72" TargetMode="External"/><Relationship Id="rId4" Type="http://schemas.openxmlformats.org/officeDocument/2006/relationships/image" Target="../media/image53.jpeg"/><Relationship Id="rId5" Type="http://schemas.openxmlformats.org/officeDocument/2006/relationships/hyperlink" Target="http://images.google.com.ar/imgres?imgurl=http://usuarios3.arsystel.com/alesales/making-plastic-using-vitamin-c_9.jpg&amp;imgrefurl=http://diabetesstop.wordpress.com/page/5/&amp;usg=__ybIEIEPD67E5FkpLu_SxXPjpKws=&amp;h=314&amp;w=300&amp;sz=10&amp;hl=es&amp;start=80&amp;tbnid=faG42C0LHvf3hM:&amp;tbnh=117&amp;tbnw=112&amp;prev=/images%3Fq%3Dclasificacion%2Bde%2Bvitaminas%2Bhidrosolubles%26gbv%3D2%26ndsp%3D18%26hl%3Des%26sa%3DN%26start%3D72" TargetMode="External"/><Relationship Id="rId6" Type="http://schemas.openxmlformats.org/officeDocument/2006/relationships/image" Target="../media/image54.jpeg"/><Relationship Id="rId7" Type="http://schemas.openxmlformats.org/officeDocument/2006/relationships/image" Target="../media/image34.jpe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tbn2.google.com/images?q=tbn:NKAWpMOAKhfKkM:http://static.consumer.es/verduras/imgs/fotografias/1conozcamos/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2120" y="714240"/>
            <a:ext cx="2643120" cy="301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tbn3.google.com/images?q=tbn:U-crGy6oi5nczM:http://www.alimentacion-sana.com.ar/Portal%2520nuevo/imagenesplanillas/originales2/sesa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6160" y="4500720"/>
            <a:ext cx="2125800" cy="1995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tbn0.google.com/images?q=tbn:faG42C0LHvf3hM:http://usuarios3.arsystel.com/alesales/making-plastic-using-vitamin-c_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880" y="3786120"/>
            <a:ext cx="2351160" cy="245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tbn0.google.com/images?q=tbn:CcgQhy2MHcUoBM:http://www.granjasdeluruguay.com.uy/materiales/verduras-0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57880" y="3143160"/>
            <a:ext cx="269388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http://tbn0.google.com/images?q=tbn:I4KwKBNfdBz16M:http://www.mygomera.de/fotos/04-09-17_fischer/pescados_80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00280" y="785880"/>
            <a:ext cx="2508480" cy="1876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http://tbn2.google.com/images?q=tbn:bHH-147IeshnpM:http://bp2.blogger.com/_EVfrzn4abyg/SIPwI-QeI5I/AAAAAAAAABE/iRWTloSv40U/s400/69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714760" y="3786120"/>
            <a:ext cx="1928520" cy="1446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arne sana"/>
          <p:cNvPicPr/>
          <p:nvPr/>
        </p:nvPicPr>
        <p:blipFill>
          <a:blip r:embed="rId13"/>
          <a:stretch/>
        </p:blipFill>
        <p:spPr>
          <a:xfrm>
            <a:off x="785880" y="1857240"/>
            <a:ext cx="2592360" cy="1954440"/>
          </a:xfrm>
          <a:prstGeom prst="rect">
            <a:avLst/>
          </a:prstGeom>
          <a:ln w="0">
            <a:noFill/>
          </a:ln>
        </p:spPr>
      </p:pic>
      <p:sp>
        <p:nvSpPr>
          <p:cNvPr id="55" name="10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ANd9GcSKID_fqN0x19q6BOqvGOSMTNEoSZqVAzYg8lIN-PnuUV8RjeQJ"/>
          <p:cNvPicPr/>
          <p:nvPr/>
        </p:nvPicPr>
        <p:blipFill>
          <a:blip r:embed="rId14"/>
          <a:stretch/>
        </p:blipFill>
        <p:spPr>
          <a:xfrm>
            <a:off x="6929280" y="4572000"/>
            <a:ext cx="1378080" cy="2033640"/>
          </a:xfrm>
          <a:prstGeom prst="rect">
            <a:avLst/>
          </a:prstGeom>
          <a:ln w="0">
            <a:noFill/>
          </a:ln>
        </p:spPr>
      </p:pic>
      <p:sp>
        <p:nvSpPr>
          <p:cNvPr id="57" name="16 Rectángulo"/>
          <p:cNvSpPr/>
          <p:nvPr/>
        </p:nvSpPr>
        <p:spPr>
          <a:xfrm>
            <a:off x="214200" y="857160"/>
            <a:ext cx="871560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Bolilla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VITAMINA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Propiedades generales. Clasificación: Vitaminas liposolubles e hidrosolubles. Estructura química. Papel funcional de las vitaminas. Provitaminas. Metabolismo. Bioquímica de las avitamin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MINERALES: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Principales componentes minerales del organismo. Ubicación celular. Requerimientos. Absorción. Funciones. Homeostasi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_s169991"/>
          <p:cNvCxnSpPr>
            <a:endCxn id="84" idx="2"/>
          </p:cNvCxnSpPr>
          <p:nvPr/>
        </p:nvCxnSpPr>
        <p:spPr>
          <a:xfrm rot="10800000">
            <a:off x="6821640" y="3428280"/>
            <a:ext cx="255960" cy="2160"/>
          </a:xfrm>
          <a:prstGeom prst="bentConnector2">
            <a:avLst/>
          </a:prstGeom>
          <a:ln w="28440">
            <a:solidFill>
              <a:srgbClr val="006699"/>
            </a:solidFill>
            <a:miter/>
          </a:ln>
        </p:spPr>
      </p:cxnSp>
      <p:cxnSp>
        <p:nvCxnSpPr>
          <p:cNvPr id="85" name="_s169993"/>
          <p:cNvCxnSpPr/>
          <p:nvPr/>
        </p:nvCxnSpPr>
        <p:spPr>
          <a:xfrm flipV="1" rot="16200000">
            <a:off x="4431240" y="-1104840"/>
            <a:ext cx="714960" cy="4609440"/>
          </a:xfrm>
          <a:prstGeom prst="bentConnector3">
            <a:avLst>
              <a:gd name="adj1" fmla="val 49974"/>
            </a:avLst>
          </a:prstGeom>
          <a:ln w="28440">
            <a:solidFill>
              <a:srgbClr val="006699"/>
            </a:solidFill>
            <a:miter/>
          </a:ln>
        </p:spPr>
      </p:cxnSp>
      <p:cxnSp>
        <p:nvCxnSpPr>
          <p:cNvPr id="86" name="_s169994"/>
          <p:cNvCxnSpPr/>
          <p:nvPr/>
        </p:nvCxnSpPr>
        <p:spPr>
          <a:xfrm flipH="1" flipV="1" rot="5400000">
            <a:off x="3636720" y="-27720"/>
            <a:ext cx="143640" cy="2448720"/>
          </a:xfrm>
          <a:prstGeom prst="bentConnector3">
            <a:avLst>
              <a:gd name="adj1" fmla="val 50000"/>
            </a:avLst>
          </a:prstGeom>
          <a:ln w="28440">
            <a:solidFill>
              <a:srgbClr val="006699"/>
            </a:solidFill>
            <a:miter/>
          </a:ln>
        </p:spPr>
      </p:cxnSp>
      <p:sp>
        <p:nvSpPr>
          <p:cNvPr id="87" name="_s169995"/>
          <p:cNvSpPr/>
          <p:nvPr/>
        </p:nvSpPr>
        <p:spPr>
          <a:xfrm>
            <a:off x="1403280" y="0"/>
            <a:ext cx="6553440" cy="110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 Narrow"/>
              </a:rPr>
              <a:t>CLASIFICACION DE LAS VITAMIN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 Narrow"/>
              </a:rPr>
              <a:t>SEGÚN SU SOLUBILIDAD</a:t>
            </a:r>
            <a:r>
              <a:rPr b="1" lang="es-AR" sz="3200" spc="-1" strike="noStrike">
                <a:solidFill>
                  <a:srgbClr val="0066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_s169996"/>
          <p:cNvSpPr/>
          <p:nvPr/>
        </p:nvSpPr>
        <p:spPr>
          <a:xfrm>
            <a:off x="71280" y="1268280"/>
            <a:ext cx="4248360" cy="19335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HIDROSOLU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No se acumulan en 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Se disuelven en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Se eliminan 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Es preciso aportarlas diari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_s169997"/>
          <p:cNvSpPr/>
          <p:nvPr/>
        </p:nvSpPr>
        <p:spPr>
          <a:xfrm>
            <a:off x="4572000" y="1279440"/>
            <a:ext cx="4500720" cy="2149560"/>
          </a:xfrm>
          <a:prstGeom prst="roundRect">
            <a:avLst>
              <a:gd name="adj" fmla="val 16667"/>
            </a:avLst>
          </a:prstGeom>
          <a:solidFill>
            <a:srgbClr val="fcf56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1900"/>
                </a:solidFill>
                <a:latin typeface="Arial Narrow"/>
              </a:rPr>
              <a:t>LIPOSOLU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Se almacenan en hígado y teji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  </a:t>
            </a: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adip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No se disuelven en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No se absorben ni excretan fáci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_s169998"/>
          <p:cNvSpPr/>
          <p:nvPr/>
        </p:nvSpPr>
        <p:spPr>
          <a:xfrm>
            <a:off x="108000" y="3429000"/>
            <a:ext cx="5113440" cy="1440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VIT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COMPLEJO 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B1 – B2 – B3 – B6 – </a:t>
            </a:r>
            <a:r>
              <a:rPr b="1" lang="es-ES" sz="2400" spc="-1" strike="noStrike">
                <a:solidFill>
                  <a:srgbClr val="ea7a26"/>
                </a:solidFill>
                <a:latin typeface="Arial Narrow"/>
              </a:rPr>
              <a:t>B12 –</a:t>
            </a: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 BIOT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AC. PANTOTENICO - AC. FOL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_s169999"/>
          <p:cNvSpPr/>
          <p:nvPr/>
        </p:nvSpPr>
        <p:spPr>
          <a:xfrm>
            <a:off x="5643720" y="3929040"/>
            <a:ext cx="3114360" cy="563760"/>
          </a:xfrm>
          <a:prstGeom prst="roundRect">
            <a:avLst>
              <a:gd name="adj" fmla="val 16667"/>
            </a:avLst>
          </a:prstGeom>
          <a:solidFill>
            <a:srgbClr val="fcf56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Arial Narrow"/>
              </a:rPr>
              <a:t>A  D  E  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_s170001"/>
          <p:cNvSpPr/>
          <p:nvPr/>
        </p:nvSpPr>
        <p:spPr>
          <a:xfrm>
            <a:off x="5143680" y="5072040"/>
            <a:ext cx="3857400" cy="150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Aceites , lácteos y deriv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y hu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4 Rectángulo redondeado"/>
          <p:cNvSpPr/>
          <p:nvPr/>
        </p:nvSpPr>
        <p:spPr>
          <a:xfrm>
            <a:off x="214200" y="5072040"/>
            <a:ext cx="4429080" cy="15717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nes, vísceras, huevo, leche, legumbres, cereales, levaduras, frutos frescos y secos, cítricos , vegetales de hojas ver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3"/>
          <p:cNvSpPr/>
          <p:nvPr/>
        </p:nvSpPr>
        <p:spPr>
          <a:xfrm>
            <a:off x="6767640" y="0"/>
            <a:ext cx="237636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, D, E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4124160" y="5157720"/>
            <a:ext cx="2519640" cy="1368360"/>
          </a:xfrm>
          <a:prstGeom prst="ellipse">
            <a:avLst/>
          </a:prstGeom>
          <a:solidFill>
            <a:srgbClr val="ea7a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sistema%20digestivo"/>
          <p:cNvPicPr/>
          <p:nvPr/>
        </p:nvPicPr>
        <p:blipFill>
          <a:blip r:embed="rId1"/>
          <a:srcRect l="32002" t="7834" r="29606" b="3451"/>
          <a:stretch/>
        </p:blipFill>
        <p:spPr>
          <a:xfrm>
            <a:off x="395280" y="0"/>
            <a:ext cx="37782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940360" y="2421000"/>
            <a:ext cx="295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Quilomic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715080" y="5429160"/>
            <a:ext cx="242892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e emulsionan con lípidos  y sales b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7740720" y="4653000"/>
            <a:ext cx="0" cy="720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468360" y="189000"/>
            <a:ext cx="790560" cy="57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6659640" y="3421080"/>
            <a:ext cx="2303280" cy="116928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bs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0"/>
          <p:cNvSpPr/>
          <p:nvPr/>
        </p:nvSpPr>
        <p:spPr>
          <a:xfrm flipV="1">
            <a:off x="7667640" y="2997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4284720" y="4076640"/>
            <a:ext cx="2287440" cy="1152720"/>
          </a:xfrm>
          <a:prstGeom prst="ellipse">
            <a:avLst/>
          </a:prstGeom>
          <a:solidFill>
            <a:srgbClr val="a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t A y Vi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2"/>
          <p:cNvSpPr/>
          <p:nvPr/>
        </p:nvSpPr>
        <p:spPr>
          <a:xfrm>
            <a:off x="5435640" y="1341360"/>
            <a:ext cx="3384360" cy="581400"/>
          </a:xfrm>
          <a:prstGeom prst="rect">
            <a:avLst/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3"/>
          <p:cNvSpPr/>
          <p:nvPr/>
        </p:nvSpPr>
        <p:spPr>
          <a:xfrm flipV="1">
            <a:off x="7596360" y="1988640"/>
            <a:ext cx="0" cy="360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4681800" cy="936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VITAMINAS LIPOSOLU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073 0.00069 0.06129 0.00092 0.09201 0.00208 C 0.09948 0.00231 0.10278 0.00254 0.10799 0.00832 C 0.11389 0.01479 0.11701 0.02427 0.12222 0.03167 C 0.12465 0.04416 0.12604 0.05711 0.12847 0.06959 C 0.12951 0.10959 0.12726 0.12554 0.1349 0.1563 C 0.13542 0.16971 0.13559 0.18312 0.13646 0.19653 C 0.1375 0.21156 0.14254 0.22659 0.14601 0.24092 C 0.14792 0.24901 0.15573 0.25711 0.16024 0.26196 C 0.16875 0.27098 0.15816 0.26127 0.16667 0.2726 C 0.16806 0.27445 0.16997 0.27514 0.17136 0.27676 C 0.17986 0.28578 0.16927 0.27607 0.17778 0.28739 C 0.18299 0.29433 0.18906 0.3008 0.19514 0.30635 C 0.20417 0.32393 0.19236 0.30265 0.20313 0.31699 C 0.20451 0.31884 0.20504 0.32138 0.20625 0.32323 C 0.20868 0.32693 0.21111 0.33109 0.21424 0.33387 C 0.2158 0.33526 0.21771 0.33641 0.2191 0.33803 C 0.23629 0.35838 0.22188 0.34474 0.23333 0.35514 C 0.23733 0.36323 0.2382 0.36855 0.23958 0.37826 C 0.23906 0.38682 0.23924 0.39537 0.23802 0.4037 C 0.23767 0.40647 0.23333 0.41225 0.23177 0.41433 C 0.22101 0.42867 0.21129 0.43676 0.19514 0.43745 C 0.15972 0.43884 0.12431 0.43884 0.08889 0.43953 C 0.08733 0.44092 0.08524 0.44185 0.08403 0.44393 C 0.08229 0.4467 0.08212 0.45641 0.0809 0.45872 C 0.07882 0.46289 0.07292 0.46913 0.07292 0.46913 C 0.06945 0.48323 0.07205 0.46797 0.07292 0.48185 C 0.07396 0.49872 0.07326 0.51583 0.07465 0.53271 C 0.07517 0.53826 0.07986 0.54034 0.08247 0.54312 C 0.09254 0.55398 0.10504 0.5563 0.11736 0.56231 C 0.13542 0.56161 0.15347 0.56208 0.17136 0.56 C 0.18507 0.55838 0.1632 0.55075 0.17934 0.55791 C 0.18142 0.57757 0.18316 0.59144 0.19201 0.6067 C 0.19323 0.60878 0.19375 0.61133 0.19514 0.61294 C 0.19983 0.61803 0.20399 0.61734 0.20955 0.61919 C 0.21684 0.62173 0.22309 0.62682 0.23021 0.62982 C 0.23056 0.63028 0.23837 0.64023 0.23802 0.64254 C 0.23767 0.64554 0.2349 0.6467 0.23333 0.64878 C 0.22483 0.64809 0.21632 0.64809 0.20799 0.6467 C 0.19254 0.64393 0.20434 0.64138 0.19045 0.64046 C 0.17136 0.6393 0.15243 0.63907 0.13333 0.63838 C 0.1283 0.63144 0.12118 0.63052 0.1158 0.62358 C 0.11267 0.62427 0.1092 0.62381 0.10625 0.62566 C 0.10191 0.62843 0.10399 0.63422 0.10156 0.63838 C 0.1 0.64092 0.09201 0.64578 0.09045 0.6467 C 0.08681 0.65179 0.08629 0.65664 0.08247 0.6615 C 0.07934 0.67815 0.07708 0.67537 0.06667 0.68277 C 0.0625 0.68208 0.05747 0.68393 0.05399 0.68069 C 0.05122 0.67815 0.05087 0.67237 0.0507 0.66797 C 0.05 0.64578 0.04948 0.61965 0.06181 0.60231 C 0.06372 0.59514 0.06667 0.58867 0.06823 0.58127 C 0.07222 0.56185 0.06806 0.56878 0.07465 0.56 C 0.07761 0.54404 0.07379 0.55861 0.0809 0.5452 C 0.08281 0.54173 0.08629 0.52948 0.08733 0.52624 C 0.09201 0.49433 0.09323 0.46196 0.07292 0.44161 C 0.06545 0.43398 0.05903 0.4252 0.05243 0.41641 C 0.0434 0.40439 0.05191 0.41364 0.04288 0.40786 C 0.04115 0.4067 0.03802 0.4037 0.03802 0.4037 E">
                                      <p:cBhvr>
                                        <p:cTn id="300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9434 L -0.48038 -0.10474 E">
                                      <p:cBhvr>
                                        <p:cTn id="35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57240" y="928440"/>
            <a:ext cx="4786560" cy="7398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Vitamina Liposoluble: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t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2195640" y="1557360"/>
            <a:ext cx="4033800" cy="1800360"/>
          </a:xfrm>
          <a:prstGeom prst="ellipse">
            <a:avLst/>
          </a:prstGeom>
          <a:solidFill>
            <a:srgbClr val="ea7a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4067280" y="3500280"/>
            <a:ext cx="0" cy="8654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8"/>
          <p:cNvGrpSpPr/>
          <p:nvPr/>
        </p:nvGrpSpPr>
        <p:grpSpPr>
          <a:xfrm>
            <a:off x="3132000" y="4724280"/>
            <a:ext cx="2940120" cy="1511280"/>
            <a:chOff x="3132000" y="4724280"/>
            <a:chExt cx="2940120" cy="1511280"/>
          </a:xfrm>
        </p:grpSpPr>
        <p:grpSp>
          <p:nvGrpSpPr>
            <p:cNvPr id="110" name="Group 21"/>
            <p:cNvGrpSpPr/>
            <p:nvPr/>
          </p:nvGrpSpPr>
          <p:grpSpPr>
            <a:xfrm>
              <a:off x="3132000" y="4724280"/>
              <a:ext cx="1727280" cy="1511280"/>
              <a:chOff x="3132000" y="4724280"/>
              <a:chExt cx="1727280" cy="1511280"/>
            </a:xfrm>
          </p:grpSpPr>
          <p:grpSp>
            <p:nvGrpSpPr>
              <p:cNvPr id="111" name="Group 22"/>
              <p:cNvGrpSpPr/>
              <p:nvPr/>
            </p:nvGrpSpPr>
            <p:grpSpPr>
              <a:xfrm>
                <a:off x="3132000" y="4724280"/>
                <a:ext cx="1727280" cy="1511280"/>
                <a:chOff x="3132000" y="4724280"/>
                <a:chExt cx="1727280" cy="1511280"/>
              </a:xfrm>
            </p:grpSpPr>
            <p:grpSp>
              <p:nvGrpSpPr>
                <p:cNvPr id="112" name="Group 23"/>
                <p:cNvGrpSpPr/>
                <p:nvPr/>
              </p:nvGrpSpPr>
              <p:grpSpPr>
                <a:xfrm>
                  <a:off x="3132000" y="4724280"/>
                  <a:ext cx="1727280" cy="1511280"/>
                  <a:chOff x="3132000" y="4724280"/>
                  <a:chExt cx="1727280" cy="1511280"/>
                </a:xfrm>
              </p:grpSpPr>
              <p:sp>
                <p:nvSpPr>
                  <p:cNvPr id="113" name="Oval 24"/>
                  <p:cNvSpPr/>
                  <p:nvPr/>
                </p:nvSpPr>
                <p:spPr>
                  <a:xfrm>
                    <a:off x="3348000" y="486864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Oval 25"/>
                  <p:cNvSpPr/>
                  <p:nvPr/>
                </p:nvSpPr>
                <p:spPr>
                  <a:xfrm>
                    <a:off x="3779640" y="5300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Oval 26"/>
                  <p:cNvSpPr/>
                  <p:nvPr/>
                </p:nvSpPr>
                <p:spPr>
                  <a:xfrm>
                    <a:off x="3419280" y="5516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Oval 27"/>
                  <p:cNvSpPr/>
                  <p:nvPr/>
                </p:nvSpPr>
                <p:spPr>
                  <a:xfrm>
                    <a:off x="3132000" y="522900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Oval 28"/>
                  <p:cNvSpPr/>
                  <p:nvPr/>
                </p:nvSpPr>
                <p:spPr>
                  <a:xfrm>
                    <a:off x="4067280" y="5084640"/>
                    <a:ext cx="50292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Oval 29"/>
                  <p:cNvSpPr/>
                  <p:nvPr/>
                </p:nvSpPr>
                <p:spPr>
                  <a:xfrm>
                    <a:off x="3779640" y="479556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Oval 30"/>
                  <p:cNvSpPr/>
                  <p:nvPr/>
                </p:nvSpPr>
                <p:spPr>
                  <a:xfrm>
                    <a:off x="4211640" y="5732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Oval 31"/>
                  <p:cNvSpPr/>
                  <p:nvPr/>
                </p:nvSpPr>
                <p:spPr>
                  <a:xfrm>
                    <a:off x="4140000" y="4724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Oval 32"/>
                  <p:cNvSpPr/>
                  <p:nvPr/>
                </p:nvSpPr>
                <p:spPr>
                  <a:xfrm>
                    <a:off x="3779640" y="5732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Oval 33"/>
                  <p:cNvSpPr/>
                  <p:nvPr/>
                </p:nvSpPr>
                <p:spPr>
                  <a:xfrm>
                    <a:off x="3132000" y="5587920"/>
                    <a:ext cx="503280" cy="502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Oval 34"/>
                  <p:cNvSpPr/>
                  <p:nvPr/>
                </p:nvSpPr>
                <p:spPr>
                  <a:xfrm>
                    <a:off x="4356000" y="515592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Oval 35"/>
                <p:cNvSpPr/>
                <p:nvPr/>
              </p:nvSpPr>
              <p:spPr>
                <a:xfrm>
                  <a:off x="3564000" y="5084640"/>
                  <a:ext cx="503280" cy="5032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Oval 36"/>
              <p:cNvSpPr/>
              <p:nvPr/>
            </p:nvSpPr>
            <p:spPr>
              <a:xfrm>
                <a:off x="4213080" y="5443560"/>
                <a:ext cx="503280" cy="502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Text Box 37"/>
            <p:cNvSpPr/>
            <p:nvPr/>
          </p:nvSpPr>
          <p:spPr>
            <a:xfrm>
              <a:off x="4356000" y="5398920"/>
              <a:ext cx="171612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EJIDO ADIPO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Oval 11"/>
          <p:cNvSpPr/>
          <p:nvPr/>
        </p:nvSpPr>
        <p:spPr>
          <a:xfrm>
            <a:off x="4500720" y="3716280"/>
            <a:ext cx="1214280" cy="784440"/>
          </a:xfrm>
          <a:prstGeom prst="ellipse">
            <a:avLst/>
          </a:prstGeom>
          <a:solidFill>
            <a:srgbClr val="a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t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45 0.0259 0.0309 0.05203 0.02379 0.08047 C 0.01667 0.10891 -0.03177 0.1563 -0.04288 0.17133 E">
                                      <p:cBhvr>
                                        <p:cTn id="39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rcRect l="5581" t="346" r="-440" b="81111"/>
          <a:stretch/>
        </p:blipFill>
        <p:spPr>
          <a:xfrm>
            <a:off x="179280" y="2060640"/>
            <a:ext cx="424836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Picture 6" descr=""/>
          <p:cNvPicPr/>
          <p:nvPr/>
        </p:nvPicPr>
        <p:blipFill>
          <a:blip r:embed="rId2">
            <a:lum bright="18000"/>
          </a:blip>
          <a:srcRect l="5581" t="17900" r="-440" b="58670"/>
          <a:stretch/>
        </p:blipFill>
        <p:spPr>
          <a:xfrm>
            <a:off x="4859280" y="404640"/>
            <a:ext cx="4103640" cy="17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7" descr=""/>
          <p:cNvPicPr/>
          <p:nvPr/>
        </p:nvPicPr>
        <p:blipFill>
          <a:blip r:embed="rId3">
            <a:lum bright="18000"/>
          </a:blip>
          <a:srcRect l="5581" t="40710" r="-440" b="38883"/>
          <a:stretch/>
        </p:blipFill>
        <p:spPr>
          <a:xfrm>
            <a:off x="4572000" y="3860640"/>
            <a:ext cx="4248000" cy="17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Oval 8"/>
          <p:cNvSpPr/>
          <p:nvPr/>
        </p:nvSpPr>
        <p:spPr>
          <a:xfrm>
            <a:off x="7572240" y="5429160"/>
            <a:ext cx="648000" cy="64764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2643120" y="3429000"/>
            <a:ext cx="1081080" cy="64944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76280" y="5135400"/>
            <a:ext cx="2952720" cy="58140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-CAROT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3429000" y="5072040"/>
            <a:ext cx="647640" cy="64764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7350120" y="1928880"/>
            <a:ext cx="1008000" cy="86364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V="1">
            <a:off x="4572000" y="2205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4643280" y="299736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4786200" cy="1857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VITAMINA A</a:t>
            </a: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Sinónimo: Reti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4"/>
          <a:stretch/>
        </p:blipFill>
        <p:spPr>
          <a:xfrm>
            <a:off x="168120" y="5786280"/>
            <a:ext cx="5332680" cy="981360"/>
          </a:xfrm>
          <a:prstGeom prst="rect">
            <a:avLst/>
          </a:prstGeom>
          <a:ln w="0">
            <a:noFill/>
          </a:ln>
        </p:spPr>
      </p:pic>
      <p:sp>
        <p:nvSpPr>
          <p:cNvPr id="140" name="14 CuadroTexto"/>
          <p:cNvSpPr/>
          <p:nvPr/>
        </p:nvSpPr>
        <p:spPr>
          <a:xfrm>
            <a:off x="4578480" y="26431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5 CuadroTexto"/>
          <p:cNvSpPr/>
          <p:nvPr/>
        </p:nvSpPr>
        <p:spPr>
          <a:xfrm>
            <a:off x="5849640" y="21430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orma 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6 CuadroTexto"/>
          <p:cNvSpPr/>
          <p:nvPr/>
        </p:nvSpPr>
        <p:spPr>
          <a:xfrm>
            <a:off x="6010200" y="56437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orma 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7 CuadroTexto"/>
          <p:cNvSpPr/>
          <p:nvPr/>
        </p:nvSpPr>
        <p:spPr>
          <a:xfrm>
            <a:off x="5429160" y="63453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ro-Vi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8 CuadroTexto"/>
          <p:cNvSpPr/>
          <p:nvPr/>
        </p:nvSpPr>
        <p:spPr>
          <a:xfrm>
            <a:off x="1152360" y="36432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orma 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20 Conector recto de flecha"/>
          <p:cNvCxnSpPr>
            <a:stCxn id="133" idx="0"/>
          </p:cNvCxnSpPr>
          <p:nvPr/>
        </p:nvCxnSpPr>
        <p:spPr>
          <a:xfrm flipV="1">
            <a:off x="1952640" y="4142880"/>
            <a:ext cx="48240" cy="9928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6" name="22 Conector recto de flecha"/>
          <p:cNvCxnSpPr/>
          <p:nvPr/>
        </p:nvCxnSpPr>
        <p:spPr>
          <a:xfrm flipH="1" flipV="1">
            <a:off x="2071440" y="4000320"/>
            <a:ext cx="24480" cy="10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VITAMINA A</a:t>
            </a: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Fun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3203640" y="3429000"/>
            <a:ext cx="5940360" cy="194472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recimiento y Difere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e células epitel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8"/>
          <p:cNvSpPr/>
          <p:nvPr/>
        </p:nvSpPr>
        <p:spPr>
          <a:xfrm>
            <a:off x="3708360" y="1413000"/>
            <a:ext cx="4103640" cy="18698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sión y ada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uz-Osc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928960" y="5345280"/>
            <a:ext cx="3168720" cy="151272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ntioxid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1" descr="ojo"/>
          <p:cNvPicPr/>
          <p:nvPr/>
        </p:nvPicPr>
        <p:blipFill>
          <a:blip r:embed="rId1"/>
          <a:stretch/>
        </p:blipFill>
        <p:spPr>
          <a:xfrm>
            <a:off x="468360" y="1773360"/>
            <a:ext cx="2556000" cy="192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2" descr="ANd9GcSpLzJE3DnrVdP5LUD75MdIyCCt0Okpc3UB8TgzRzUzJbUc7cQacg"/>
          <p:cNvPicPr/>
          <p:nvPr/>
        </p:nvPicPr>
        <p:blipFill>
          <a:blip r:embed="rId2"/>
          <a:stretch/>
        </p:blipFill>
        <p:spPr>
          <a:xfrm>
            <a:off x="539640" y="4365720"/>
            <a:ext cx="2352960" cy="1942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"/>
          <p:cNvSpPr/>
          <p:nvPr/>
        </p:nvSpPr>
        <p:spPr>
          <a:xfrm>
            <a:off x="5929200" y="6072120"/>
            <a:ext cx="2952720" cy="52056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-Carot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8 CuadroTexto"/>
          <p:cNvSpPr/>
          <p:nvPr/>
        </p:nvSpPr>
        <p:spPr>
          <a:xfrm>
            <a:off x="6357960" y="4929120"/>
            <a:ext cx="2552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. Retino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9 CuadroTexto"/>
          <p:cNvSpPr/>
          <p:nvPr/>
        </p:nvSpPr>
        <p:spPr>
          <a:xfrm>
            <a:off x="6591240" y="2786040"/>
            <a:ext cx="2552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1-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is-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HIGADO"/>
          <p:cNvPicPr/>
          <p:nvPr/>
        </p:nvPicPr>
        <p:blipFill>
          <a:blip r:embed="rId1"/>
          <a:srcRect l="0" t="25110" r="6056" b="2760"/>
          <a:stretch/>
        </p:blipFill>
        <p:spPr>
          <a:xfrm>
            <a:off x="179280" y="2146320"/>
            <a:ext cx="4969080" cy="2854440"/>
          </a:xfrm>
          <a:prstGeom prst="rect">
            <a:avLst/>
          </a:prstGeom>
          <a:ln w="0">
            <a:noFill/>
          </a:ln>
        </p:spPr>
      </p:pic>
      <p:sp>
        <p:nvSpPr>
          <p:cNvPr id="157" name="Oval 7"/>
          <p:cNvSpPr/>
          <p:nvPr/>
        </p:nvSpPr>
        <p:spPr>
          <a:xfrm>
            <a:off x="826920" y="2060640"/>
            <a:ext cx="1584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54764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9"/>
          <p:cNvSpPr/>
          <p:nvPr/>
        </p:nvSpPr>
        <p:spPr>
          <a:xfrm>
            <a:off x="755640" y="3284640"/>
            <a:ext cx="1584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OL,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1763640" y="4076640"/>
            <a:ext cx="0" cy="129708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79280" y="5357880"/>
            <a:ext cx="4248360" cy="52056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FR+ROL+Prealbú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5435640" y="2276640"/>
            <a:ext cx="3058920" cy="3889080"/>
          </a:xfrm>
          <a:prstGeom prst="ellipse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5435640" y="155736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LULA 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5508720" y="3860640"/>
            <a:ext cx="2448000" cy="1727280"/>
          </a:xfrm>
          <a:prstGeom prst="ellipse">
            <a:avLst/>
          </a:prstGeom>
          <a:solidFill>
            <a:srgbClr val="f3e8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UC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6012000" y="2637000"/>
            <a:ext cx="244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CFR-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CFAR-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6"/>
          <p:cNvSpPr/>
          <p:nvPr/>
        </p:nvSpPr>
        <p:spPr>
          <a:xfrm>
            <a:off x="4067280" y="3284640"/>
            <a:ext cx="1944720" cy="237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7"/>
          <p:cNvSpPr/>
          <p:nvPr/>
        </p:nvSpPr>
        <p:spPr>
          <a:xfrm>
            <a:off x="7596360" y="3860640"/>
            <a:ext cx="647640" cy="65880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8" descr=""/>
          <p:cNvPicPr/>
          <p:nvPr/>
        </p:nvPicPr>
        <p:blipFill>
          <a:blip r:embed="rId2"/>
          <a:srcRect l="21523" t="8955" r="26879" b="75693"/>
          <a:stretch/>
        </p:blipFill>
        <p:spPr>
          <a:xfrm>
            <a:off x="5219640" y="4869000"/>
            <a:ext cx="3456000" cy="8636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69" name="Oval 19"/>
          <p:cNvSpPr/>
          <p:nvPr/>
        </p:nvSpPr>
        <p:spPr>
          <a:xfrm>
            <a:off x="5219640" y="5229360"/>
            <a:ext cx="863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VITAMINA A -</a:t>
            </a: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Fun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19 CuadroTexto"/>
          <p:cNvSpPr/>
          <p:nvPr/>
        </p:nvSpPr>
        <p:spPr>
          <a:xfrm>
            <a:off x="20160" y="1214280"/>
            <a:ext cx="52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RECIMIENTO Y REGENE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E CÉLULAS EPITEL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20 CuadroTexto"/>
          <p:cNvSpPr/>
          <p:nvPr/>
        </p:nvSpPr>
        <p:spPr>
          <a:xfrm>
            <a:off x="157680" y="6000840"/>
            <a:ext cx="477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FR: proteína fijadora de Reti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FR: proteína celular fijadora de Reti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FAR: proteína celular fijadora de Ac Ret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CuadroTexto"/>
          <p:cNvSpPr/>
          <p:nvPr/>
        </p:nvSpPr>
        <p:spPr>
          <a:xfrm>
            <a:off x="2003400" y="1357200"/>
            <a:ext cx="2163240" cy="459720"/>
          </a:xfrm>
          <a:prstGeom prst="rect">
            <a:avLst/>
          </a:prstGeom>
          <a:solidFill>
            <a:srgbClr val="fcf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1-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Re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4 CuadroTexto"/>
          <p:cNvSpPr/>
          <p:nvPr/>
        </p:nvSpPr>
        <p:spPr>
          <a:xfrm>
            <a:off x="6008760" y="2428920"/>
            <a:ext cx="105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P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5 CuadroTexto"/>
          <p:cNvSpPr/>
          <p:nvPr/>
        </p:nvSpPr>
        <p:spPr>
          <a:xfrm>
            <a:off x="5432040" y="1428840"/>
            <a:ext cx="2873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do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Re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6 CuadroTexto"/>
          <p:cNvSpPr/>
          <p:nvPr/>
        </p:nvSpPr>
        <p:spPr>
          <a:xfrm>
            <a:off x="3584160" y="3071880"/>
            <a:ext cx="2706120" cy="8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RODOPS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66"/>
                </a:solidFill>
                <a:latin typeface="Arial"/>
              </a:rPr>
              <a:t>(pigmento vis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8 CuadroTexto"/>
          <p:cNvSpPr/>
          <p:nvPr/>
        </p:nvSpPr>
        <p:spPr>
          <a:xfrm>
            <a:off x="6082920" y="4572000"/>
            <a:ext cx="2285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mpulso nervi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nervio ópt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9 CuadroTexto"/>
          <p:cNvSpPr/>
          <p:nvPr/>
        </p:nvSpPr>
        <p:spPr>
          <a:xfrm>
            <a:off x="2221200" y="2487600"/>
            <a:ext cx="105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P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1857240" y="4214880"/>
            <a:ext cx="1643040" cy="1357200"/>
          </a:xfrm>
          <a:prstGeom prst="irregularSeal1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aja intensidad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3786120" y="5572080"/>
            <a:ext cx="2428920" cy="1081080"/>
          </a:xfrm>
          <a:custGeom>
            <a:avLst/>
            <a:gdLst>
              <a:gd name="textAreaLeft" fmla="*/ 0 w 2428920"/>
              <a:gd name="textAreaRight" fmla="*/ 2429280 w 2428920"/>
              <a:gd name="textAreaTop" fmla="*/ 140040 h 1081080"/>
              <a:gd name="textAreaBottom" fmla="*/ 941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66"/>
                </a:solidFill>
                <a:latin typeface="Arial"/>
              </a:rPr>
              <a:t>VISION NOCTU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14 Conector recto de flecha"/>
          <p:cNvCxnSpPr/>
          <p:nvPr/>
        </p:nvCxnSpPr>
        <p:spPr>
          <a:xfrm>
            <a:off x="3357720" y="1856880"/>
            <a:ext cx="786240" cy="100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15 Conector recto de flecha"/>
          <p:cNvCxnSpPr/>
          <p:nvPr/>
        </p:nvCxnSpPr>
        <p:spPr>
          <a:xfrm flipV="1">
            <a:off x="5142600" y="1856520"/>
            <a:ext cx="857880" cy="100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21 Arco"/>
          <p:cNvSpPr/>
          <p:nvPr/>
        </p:nvSpPr>
        <p:spPr>
          <a:xfrm>
            <a:off x="2786040" y="2000160"/>
            <a:ext cx="928800" cy="7858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22 Flecha curvada hacia abajo"/>
          <p:cNvSpPr/>
          <p:nvPr/>
        </p:nvSpPr>
        <p:spPr>
          <a:xfrm>
            <a:off x="5357880" y="2357280"/>
            <a:ext cx="642960" cy="357480"/>
          </a:xfrm>
          <a:custGeom>
            <a:avLst/>
            <a:gdLst>
              <a:gd name="textAreaLeft" fmla="*/ 127080 w 642960"/>
              <a:gd name="textAreaRight" fmla="*/ 471240 w 64296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50" hR="21600" stAng="10800000" swAng="5400000"/>
                <a:lnTo>
                  <a:pt x="11550" y="0"/>
                </a:lnTo>
                <a:arcTo wR="8550" hR="21600" stAng="-5400000" swAng="3413035"/>
                <a:lnTo>
                  <a:pt x="21329" y="16200"/>
                </a:lnTo>
                <a:lnTo>
                  <a:pt x="18600" y="21600"/>
                </a:lnTo>
                <a:lnTo>
                  <a:pt x="15329" y="16200"/>
                </a:lnTo>
                <a:lnTo>
                  <a:pt x="16829" y="16200"/>
                </a:lnTo>
                <a:arcTo wR="8550" hR="21600" stAng="-1986965" swAng="-3170942"/>
                <a:lnTo>
                  <a:pt x="10050" y="335"/>
                </a:lnTo>
                <a:arcTo wR="8550" hR="21600" stAng="-5642092" swAng="-5157908"/>
                <a:close/>
              </a:path>
              <a:path fill="darkenLess" w="21600" h="21600">
                <a:moveTo>
                  <a:pt x="0" y="21600"/>
                </a:moveTo>
                <a:arcTo wR="8550" hR="21600" stAng="10800000" swAng="5400000"/>
                <a:lnTo>
                  <a:pt x="8550" y="0"/>
                </a:lnTo>
                <a:arcTo wR="8550" hR="21600" stAng="-5400000" swAng="242092"/>
                <a:lnTo>
                  <a:pt x="10050" y="335"/>
                </a:lnTo>
                <a:arcTo wR="8550" hR="21600" stAng="-5642092" swAng="-5157908"/>
                <a:close/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25 Conector recto de flecha"/>
          <p:cNvCxnSpPr/>
          <p:nvPr/>
        </p:nvCxnSpPr>
        <p:spPr>
          <a:xfrm flipH="1">
            <a:off x="4214160" y="1641960"/>
            <a:ext cx="1143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30 Rayo"/>
          <p:cNvSpPr/>
          <p:nvPr/>
        </p:nvSpPr>
        <p:spPr>
          <a:xfrm rot="15372000">
            <a:off x="3332520" y="3977280"/>
            <a:ext cx="750960" cy="83160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2 CuadroTexto"/>
          <p:cNvSpPr/>
          <p:nvPr/>
        </p:nvSpPr>
        <p:spPr>
          <a:xfrm>
            <a:off x="7072200" y="5886360"/>
            <a:ext cx="1168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re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33 Conector recto de flecha"/>
          <p:cNvCxnSpPr/>
          <p:nvPr/>
        </p:nvCxnSpPr>
        <p:spPr>
          <a:xfrm flipH="1">
            <a:off x="6214320" y="6143760"/>
            <a:ext cx="857880" cy="72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34 Conector recto de flecha"/>
          <p:cNvCxnSpPr/>
          <p:nvPr/>
        </p:nvCxnSpPr>
        <p:spPr>
          <a:xfrm>
            <a:off x="6000840" y="4000320"/>
            <a:ext cx="35784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36 Conector recto de flecha"/>
          <p:cNvCxnSpPr/>
          <p:nvPr/>
        </p:nvCxnSpPr>
        <p:spPr>
          <a:xfrm flipH="1">
            <a:off x="7571520" y="5216400"/>
            <a:ext cx="2520" cy="64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39 CuadroTexto"/>
          <p:cNvSpPr/>
          <p:nvPr/>
        </p:nvSpPr>
        <p:spPr>
          <a:xfrm>
            <a:off x="857160" y="855720"/>
            <a:ext cx="7929720" cy="594612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285840" y="0"/>
            <a:ext cx="82296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400"/>
            </a:b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VITAMINA A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c00000"/>
                </a:solidFill>
                <a:latin typeface="Comic Sans MS"/>
              </a:rPr>
              <a:t>y la 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42 Cilindro"/>
          <p:cNvSpPr/>
          <p:nvPr/>
        </p:nvSpPr>
        <p:spPr>
          <a:xfrm>
            <a:off x="7215120" y="2928960"/>
            <a:ext cx="357120" cy="1500120"/>
          </a:xfrm>
          <a:prstGeom prst="can">
            <a:avLst>
              <a:gd name="adj" fmla="val 5953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43 Rectángulo"/>
          <p:cNvSpPr/>
          <p:nvPr/>
        </p:nvSpPr>
        <p:spPr>
          <a:xfrm>
            <a:off x="6518520" y="30718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(bastoncillos-Ret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ojo"/>
          <p:cNvPicPr/>
          <p:nvPr/>
        </p:nvPicPr>
        <p:blipFill>
          <a:blip r:embed="rId1"/>
          <a:stretch/>
        </p:blipFill>
        <p:spPr>
          <a:xfrm>
            <a:off x="1000080" y="2928960"/>
            <a:ext cx="16732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6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4"/>
          <p:cNvSpPr/>
          <p:nvPr/>
        </p:nvSpPr>
        <p:spPr>
          <a:xfrm>
            <a:off x="179280" y="911160"/>
            <a:ext cx="3456000" cy="216072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RETINO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T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 flipV="1">
            <a:off x="3635280" y="106524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5143680" y="704880"/>
            <a:ext cx="1800000" cy="122400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3643200" y="2136600"/>
            <a:ext cx="1150920" cy="863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4932360" y="2147760"/>
            <a:ext cx="3887640" cy="1068840"/>
          </a:xfrm>
          <a:prstGeom prst="rect">
            <a:avLst/>
          </a:prstGeom>
          <a:solidFill>
            <a:srgbClr val="fcf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SINTESIS DE GLICOPROTE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6659640" y="334332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4211640" y="5229360"/>
            <a:ext cx="4537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ANTENIMIENTO DE LOS EPITE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85840" y="0"/>
            <a:ext cx="82296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000"/>
            </a:b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VITAMINA A</a:t>
            </a: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c00000"/>
                </a:solidFill>
                <a:latin typeface="Comic Sans MS"/>
              </a:rPr>
              <a:t>Metabo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VEGETALE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Caroteno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pinaca, Acelg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Zanahorias, Zapallo, Batata, Tomate, Durazno, Damasco, Maíz amar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ANIMALE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 Retinol libre ó Esterificado c/ AG de cadena la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ígado, Leche, manteca, Huevo, Riñón, Músculo.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Pece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Hígado de bacalao y tibu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zanahoria"/>
          <p:cNvPicPr/>
          <p:nvPr/>
        </p:nvPicPr>
        <p:blipFill>
          <a:blip r:embed="rId1"/>
          <a:stretch/>
        </p:blipFill>
        <p:spPr>
          <a:xfrm>
            <a:off x="7643880" y="1714680"/>
            <a:ext cx="1263600" cy="1666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images"/>
          <p:cNvPicPr/>
          <p:nvPr/>
        </p:nvPicPr>
        <p:blipFill>
          <a:blip r:embed="rId2"/>
          <a:stretch/>
        </p:blipFill>
        <p:spPr>
          <a:xfrm>
            <a:off x="7643880" y="5619600"/>
            <a:ext cx="1238040" cy="12384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VITAMINA A -</a:t>
            </a: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u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44360" y="2492280"/>
            <a:ext cx="82296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dulto Normal: 1000 UI (=1 mg.retinol/d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jeres en lactancia 1.500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° Año de vida: 400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-10 años: 400-700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1268280"/>
            <a:ext cx="9144000" cy="1092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000000"/>
                </a:solidFill>
                <a:uFillTx/>
                <a:latin typeface="Arial"/>
              </a:rPr>
              <a:t>Unidades Internacionales (UI)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1" lang="es-AR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g retinal todo trans 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s-AR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g de </a:t>
            </a:r>
            <a:r>
              <a:rPr b="1" lang="es-AR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-carote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16000" y="4795920"/>
            <a:ext cx="338436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EFI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0" y="5950080"/>
            <a:ext cx="432108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TOX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>
            <a:off x="3635280" y="5084640"/>
            <a:ext cx="14400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>
            <a:off x="4282920" y="6308640"/>
            <a:ext cx="360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4680000" y="5473800"/>
            <a:ext cx="44640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a7e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iel, membranas                  de mucosa y pérdida         del cab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 rot="3796800">
            <a:off x="4026960" y="5947920"/>
            <a:ext cx="1295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G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5072040" y="4214880"/>
            <a:ext cx="3889440" cy="1169280"/>
          </a:xfrm>
          <a:prstGeom prst="rect">
            <a:avLst/>
          </a:prstGeom>
          <a:solidFill>
            <a:srgbClr val="ffffff"/>
          </a:solidFill>
          <a:ln w="9360">
            <a:solidFill>
              <a:srgbClr val="a7e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eguera noctu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iel res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3600"/>
            </a:br>
            <a:r>
              <a:rPr b="1" lang="es-AR" sz="3600" spc="-1" strike="noStrike">
                <a:solidFill>
                  <a:srgbClr val="c00000"/>
                </a:solidFill>
                <a:latin typeface="Arial"/>
              </a:rPr>
              <a:t>VITAMINA A -</a:t>
            </a:r>
            <a:r>
              <a:rPr b="1" lang="es-AR" sz="36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c00000"/>
                </a:solidFill>
                <a:latin typeface="Comic Sans MS"/>
              </a:rPr>
              <a:t>Necesidades d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2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89000"/>
            <a:ext cx="9144000" cy="3423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  <a:ea typeface="Arial"/>
              </a:rPr>
              <a:t>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constituyentes de los ali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necesarios para mantener las funciones v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7440" y="1928880"/>
            <a:ext cx="864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d2d8a"/>
                </a:solidFill>
                <a:latin typeface="Arial"/>
                <a:ea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2d2d8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d2d8a"/>
                </a:solidFill>
                <a:latin typeface="Arial"/>
                <a:ea typeface="Arial"/>
              </a:rPr>
              <a:t>En función de la cantidad necesaria para 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14200" y="2928960"/>
            <a:ext cx="4176720" cy="420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baseline="10000">
                <a:solidFill>
                  <a:srgbClr val="000000"/>
                </a:solidFill>
                <a:latin typeface="Arial"/>
              </a:rPr>
              <a:t>H. DE CARBO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baseline="10000">
                <a:solidFill>
                  <a:srgbClr val="000000"/>
                </a:solidFill>
                <a:latin typeface="Arial"/>
              </a:rPr>
              <a:t>PROTEÍ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baseline="10000">
                <a:solidFill>
                  <a:srgbClr val="000000"/>
                </a:solidFill>
                <a:latin typeface="Arial"/>
              </a:rPr>
              <a:t>LÍP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2920" y="2968560"/>
            <a:ext cx="4319640" cy="41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270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baseline="10000">
                <a:solidFill>
                  <a:srgbClr val="c00000"/>
                </a:solidFill>
                <a:latin typeface="Arial"/>
              </a:rPr>
              <a:t>VITAM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270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baseline="10000">
                <a:solidFill>
                  <a:srgbClr val="c00000"/>
                </a:solidFill>
                <a:latin typeface="Arial"/>
              </a:rPr>
              <a:t>MI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7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10000">
                <a:solidFill>
                  <a:srgbClr val="000000"/>
                </a:solidFill>
                <a:latin typeface="Arial"/>
              </a:rPr>
              <a:t>OLIGO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5840" y="2928960"/>
            <a:ext cx="39607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(gr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786200" y="3000240"/>
            <a:ext cx="39610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cc"/>
                </a:solidFill>
                <a:latin typeface="Symbol"/>
                <a:ea typeface="Symbol"/>
              </a:rPr>
              <a:t></a:t>
            </a:r>
            <a:r>
              <a:rPr b="1" i="1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g-mg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vitaminaD"/>
          <p:cNvPicPr/>
          <p:nvPr/>
        </p:nvPicPr>
        <p:blipFill>
          <a:blip r:embed="rId1"/>
          <a:stretch/>
        </p:blipFill>
        <p:spPr>
          <a:xfrm>
            <a:off x="457200" y="2527200"/>
            <a:ext cx="8229600" cy="26701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428760" y="0"/>
            <a:ext cx="8358120" cy="1857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008000"/>
                </a:solidFill>
                <a:latin typeface="Arial"/>
              </a:rPr>
              <a:t>VITAMINA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8000"/>
                </a:solidFill>
                <a:latin typeface="Arial"/>
              </a:rPr>
              <a:t>Sinónimos: calciferol, Vit antirraqu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5 CuadroTexto"/>
          <p:cNvSpPr/>
          <p:nvPr/>
        </p:nvSpPr>
        <p:spPr>
          <a:xfrm>
            <a:off x="2786040" y="5715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6 CuadroTexto"/>
          <p:cNvSpPr/>
          <p:nvPr/>
        </p:nvSpPr>
        <p:spPr>
          <a:xfrm>
            <a:off x="2296800" y="5357880"/>
            <a:ext cx="588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ERIVADA DEL COLEST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SINTETIZADA  POR EL ORGANISMO MAY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ALMACENADA EN HÍG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2406600" y="500040"/>
            <a:ext cx="45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Precursor de importantes biomoléc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6 CuadroTexto"/>
          <p:cNvSpPr/>
          <p:nvPr/>
        </p:nvSpPr>
        <p:spPr>
          <a:xfrm>
            <a:off x="178920" y="0"/>
            <a:ext cx="89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funciones cumple el Colesterol?        </a:t>
            </a:r>
            <a:r>
              <a:rPr b="1" lang="es-ES_tradnl" sz="2400" spc="-1" strike="noStrike">
                <a:solidFill>
                  <a:srgbClr val="ff0066"/>
                </a:solidFill>
                <a:latin typeface="Comic Sans MS"/>
              </a:rPr>
              <a:t>REPASEMOS……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7 CuadroTexto"/>
          <p:cNvSpPr/>
          <p:nvPr/>
        </p:nvSpPr>
        <p:spPr>
          <a:xfrm>
            <a:off x="3727080" y="1143000"/>
            <a:ext cx="2261160" cy="45972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C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1 CuadroTexto"/>
          <p:cNvSpPr/>
          <p:nvPr/>
        </p:nvSpPr>
        <p:spPr>
          <a:xfrm>
            <a:off x="428760" y="1071720"/>
            <a:ext cx="1679400" cy="7038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Hor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esteroid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2 CuadroTexto"/>
          <p:cNvSpPr/>
          <p:nvPr/>
        </p:nvSpPr>
        <p:spPr>
          <a:xfrm>
            <a:off x="7286760" y="1000080"/>
            <a:ext cx="1357200" cy="7038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Bili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3 CuadroTexto"/>
          <p:cNvSpPr/>
          <p:nvPr/>
        </p:nvSpPr>
        <p:spPr>
          <a:xfrm>
            <a:off x="4502520" y="1928880"/>
            <a:ext cx="759960" cy="3988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  <a:ea typeface="Arial"/>
              </a:rPr>
              <a:t>Vit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5 Conector recto"/>
          <p:cNvSpPr/>
          <p:nvPr/>
        </p:nvSpPr>
        <p:spPr>
          <a:xfrm flipH="1" flipV="1">
            <a:off x="2214360" y="1213920"/>
            <a:ext cx="1500120" cy="158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21 Conector recto"/>
          <p:cNvSpPr/>
          <p:nvPr/>
        </p:nvSpPr>
        <p:spPr>
          <a:xfrm flipV="1">
            <a:off x="6000840" y="1213920"/>
            <a:ext cx="1214280" cy="142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9600" y="2560680"/>
            <a:ext cx="3675240" cy="4270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2428920" y="2214720"/>
            <a:ext cx="1928880" cy="1536480"/>
          </a:xfrm>
          <a:prstGeom prst="rect">
            <a:avLst/>
          </a:prstGeom>
          <a:ln w="0">
            <a:noFill/>
          </a:ln>
        </p:spPr>
      </p:pic>
      <p:sp>
        <p:nvSpPr>
          <p:cNvPr id="232" name="41 Conector recto"/>
          <p:cNvSpPr/>
          <p:nvPr/>
        </p:nvSpPr>
        <p:spPr>
          <a:xfrm>
            <a:off x="4857840" y="1604880"/>
            <a:ext cx="23760" cy="324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http://ocw.innova.uned.es/biologia/contenidos/bio/img/esteroides.jpg"/>
          <p:cNvPicPr/>
          <p:nvPr/>
        </p:nvPicPr>
        <p:blipFill>
          <a:blip r:embed="rId3"/>
          <a:stretch/>
        </p:blipFill>
        <p:spPr>
          <a:xfrm>
            <a:off x="4210200" y="3357720"/>
            <a:ext cx="4933800" cy="3181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http://www.metabolismo.biz/web/wp-content/uploads/Fig-2-Acidos-biliares.gif"/>
          <p:cNvPicPr/>
          <p:nvPr/>
        </p:nvPicPr>
        <p:blipFill>
          <a:blip r:embed="rId4"/>
          <a:stretch/>
        </p:blipFill>
        <p:spPr>
          <a:xfrm>
            <a:off x="6726240" y="1857240"/>
            <a:ext cx="4703760" cy="1285920"/>
          </a:xfrm>
          <a:prstGeom prst="rect">
            <a:avLst/>
          </a:prstGeom>
          <a:ln w="0">
            <a:noFill/>
          </a:ln>
        </p:spPr>
      </p:pic>
      <p:sp>
        <p:nvSpPr>
          <p:cNvPr id="235" name="61 Conector recto"/>
          <p:cNvSpPr/>
          <p:nvPr/>
        </p:nvSpPr>
        <p:spPr>
          <a:xfrm flipV="1">
            <a:off x="1712160" y="1785600"/>
            <a:ext cx="1800" cy="785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16 Elipse"/>
          <p:cNvSpPr/>
          <p:nvPr/>
        </p:nvSpPr>
        <p:spPr>
          <a:xfrm>
            <a:off x="4429080" y="1714680"/>
            <a:ext cx="914400" cy="9144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7 Elipse"/>
          <p:cNvSpPr/>
          <p:nvPr/>
        </p:nvSpPr>
        <p:spPr>
          <a:xfrm>
            <a:off x="6500880" y="4786200"/>
            <a:ext cx="2714400" cy="20718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539640" y="2033640"/>
            <a:ext cx="828036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Esencial para el crecimiento y desarrollo normal de los hu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Participa en la absorción del calcio y fósf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10 a 15 minutos de exposición al sol bastan para sintetizarla a nivel de la 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Ayuda al sistema inmu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008000"/>
                </a:solidFill>
                <a:latin typeface="Arial"/>
              </a:rPr>
              <a:t>VITAMINA D  -  </a:t>
            </a:r>
            <a:r>
              <a:rPr b="1" lang="es-AR" sz="4000" spc="-1" strike="noStrike">
                <a:solidFill>
                  <a:srgbClr val="008000"/>
                </a:solidFill>
                <a:latin typeface="Comic Sans MS"/>
              </a:rPr>
              <a:t>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0" y="2852640"/>
            <a:ext cx="4067280" cy="113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Arial"/>
              </a:rPr>
              <a:t>COLECALCIFEROL ó Vit D</a:t>
            </a:r>
            <a:r>
              <a:rPr b="1" lang="es-AR" sz="32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r>
              <a:rPr b="1" lang="es-AR" sz="3200" spc="-1" strike="noStrike">
                <a:solidFill>
                  <a:srgbClr val="008000"/>
                </a:solidFill>
                <a:latin typeface="Arial"/>
              </a:rPr>
              <a:t>(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4716360" y="2500200"/>
            <a:ext cx="424836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Arial"/>
              </a:rPr>
              <a:t>1, 25-dihidroxiC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Arial"/>
              </a:rPr>
              <a:t>ó Calcitri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5280" y="1125360"/>
            <a:ext cx="309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1643040" y="1643040"/>
            <a:ext cx="0" cy="360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1714680" y="2500200"/>
            <a:ext cx="0" cy="360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4"/>
          <p:cNvSpPr/>
          <p:nvPr/>
        </p:nvSpPr>
        <p:spPr>
          <a:xfrm>
            <a:off x="2214720" y="2214720"/>
            <a:ext cx="1439640" cy="79200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000680" y="3143160"/>
            <a:ext cx="936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6"/>
          <p:cNvSpPr/>
          <p:nvPr/>
        </p:nvSpPr>
        <p:spPr>
          <a:xfrm>
            <a:off x="1403280" y="4005360"/>
            <a:ext cx="5832720" cy="165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OMEOSTASIS DEL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3"/>
          <p:cNvGrpSpPr/>
          <p:nvPr/>
        </p:nvGrpSpPr>
        <p:grpSpPr>
          <a:xfrm>
            <a:off x="7451640" y="3716280"/>
            <a:ext cx="1331280" cy="2809440"/>
            <a:chOff x="7451640" y="3716280"/>
            <a:chExt cx="1331280" cy="2809440"/>
          </a:xfrm>
        </p:grpSpPr>
        <p:pic>
          <p:nvPicPr>
            <p:cNvPr id="249" name="Picture 17" descr="metabolismo del Ca"/>
            <p:cNvPicPr/>
            <p:nvPr/>
          </p:nvPicPr>
          <p:blipFill>
            <a:blip r:embed="rId1"/>
            <a:srcRect l="70378" t="38198" r="23655" b="36340"/>
            <a:stretch/>
          </p:blipFill>
          <p:spPr>
            <a:xfrm>
              <a:off x="7451640" y="3716280"/>
              <a:ext cx="12495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Rectangle 20"/>
            <p:cNvSpPr/>
            <p:nvPr/>
          </p:nvSpPr>
          <p:spPr>
            <a:xfrm>
              <a:off x="7451640" y="4839480"/>
              <a:ext cx="26712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1"/>
            <p:cNvSpPr/>
            <p:nvPr/>
          </p:nvSpPr>
          <p:spPr>
            <a:xfrm>
              <a:off x="8516520" y="4932000"/>
              <a:ext cx="26640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Oval 8"/>
          <p:cNvSpPr/>
          <p:nvPr/>
        </p:nvSpPr>
        <p:spPr>
          <a:xfrm>
            <a:off x="6804000" y="4941720"/>
            <a:ext cx="1944720" cy="1511640"/>
          </a:xfrm>
          <a:prstGeom prst="ellipse">
            <a:avLst/>
          </a:prstGeom>
          <a:solidFill>
            <a:srgbClr val="bbe0e3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ORM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642960" y="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3200"/>
            </a:br>
            <a:r>
              <a:rPr b="1" lang="es-AR" sz="3200" spc="-1" strike="noStrike">
                <a:solidFill>
                  <a:srgbClr val="008000"/>
                </a:solidFill>
                <a:latin typeface="Arial"/>
              </a:rPr>
              <a:t>VITAMINA D –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Formas activas-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15 CuadroTexto"/>
          <p:cNvSpPr/>
          <p:nvPr/>
        </p:nvSpPr>
        <p:spPr>
          <a:xfrm>
            <a:off x="298440" y="2000160"/>
            <a:ext cx="517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d2d8a"/>
                </a:solidFill>
                <a:latin typeface="Arial"/>
              </a:rPr>
              <a:t>PROVITAMINA  D</a:t>
            </a:r>
            <a:r>
              <a:rPr b="1" lang="es-ES_tradnl" sz="2000" spc="-1" strike="noStrike" baseline="-25000">
                <a:solidFill>
                  <a:srgbClr val="2d2d8a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2d2d8a"/>
                </a:solidFill>
                <a:latin typeface="Arial"/>
              </a:rPr>
              <a:t>: 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7-Des-Hidroc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6 CuadroTexto"/>
          <p:cNvSpPr/>
          <p:nvPr/>
        </p:nvSpPr>
        <p:spPr>
          <a:xfrm>
            <a:off x="3510000" y="335772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idroxil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5"/>
          <p:cNvSpPr/>
          <p:nvPr/>
        </p:nvSpPr>
        <p:spPr>
          <a:xfrm>
            <a:off x="2411280" y="2852640"/>
            <a:ext cx="3461040" cy="2376720"/>
          </a:xfrm>
          <a:prstGeom prst="pie">
            <a:avLst/>
          </a:pr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8"/>
          <p:cNvGrpSpPr/>
          <p:nvPr/>
        </p:nvGrpSpPr>
        <p:grpSpPr>
          <a:xfrm>
            <a:off x="6084720" y="3429000"/>
            <a:ext cx="1755720" cy="2268360"/>
            <a:chOff x="6084720" y="3429000"/>
            <a:chExt cx="1755720" cy="2268360"/>
          </a:xfrm>
        </p:grpSpPr>
        <p:sp>
          <p:nvSpPr>
            <p:cNvPr id="258" name="Freeform 9"/>
            <p:cNvSpPr/>
            <p:nvPr/>
          </p:nvSpPr>
          <p:spPr>
            <a:xfrm>
              <a:off x="6084720" y="3429000"/>
              <a:ext cx="1139760" cy="2268360"/>
            </a:xfrm>
            <a:prstGeom prst="pie">
              <a:avLst/>
            </a:pr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"/>
            <p:cNvSpPr/>
            <p:nvPr/>
          </p:nvSpPr>
          <p:spPr>
            <a:xfrm>
              <a:off x="6905520" y="4160520"/>
              <a:ext cx="934920" cy="1006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"/>
            <p:cNvSpPr/>
            <p:nvPr/>
          </p:nvSpPr>
          <p:spPr>
            <a:xfrm>
              <a:off x="7056360" y="4508280"/>
              <a:ext cx="649440" cy="65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2"/>
          <p:cNvGrpSpPr/>
          <p:nvPr/>
        </p:nvGrpSpPr>
        <p:grpSpPr>
          <a:xfrm>
            <a:off x="468360" y="4581360"/>
            <a:ext cx="1344600" cy="1871640"/>
            <a:chOff x="468360" y="4581360"/>
            <a:chExt cx="1344600" cy="1871640"/>
          </a:xfrm>
        </p:grpSpPr>
        <p:sp>
          <p:nvSpPr>
            <p:cNvPr id="262" name="Freeform 13"/>
            <p:cNvSpPr/>
            <p:nvPr/>
          </p:nvSpPr>
          <p:spPr>
            <a:xfrm>
              <a:off x="468360" y="4581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"/>
            <p:cNvSpPr/>
            <p:nvPr/>
          </p:nvSpPr>
          <p:spPr>
            <a:xfrm>
              <a:off x="731880" y="4589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5"/>
          <p:cNvSpPr/>
          <p:nvPr/>
        </p:nvSpPr>
        <p:spPr>
          <a:xfrm rot="19789800">
            <a:off x="360" y="3860280"/>
            <a:ext cx="2627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 rot="3768600">
            <a:off x="6622200" y="2968200"/>
            <a:ext cx="1536840" cy="581400"/>
          </a:xfrm>
          <a:prstGeom prst="rect">
            <a:avLst/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4"/>
          <p:cNvSpPr/>
          <p:nvPr/>
        </p:nvSpPr>
        <p:spPr>
          <a:xfrm flipH="1">
            <a:off x="3851280" y="1773360"/>
            <a:ext cx="144144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5"/>
          <p:cNvSpPr/>
          <p:nvPr/>
        </p:nvSpPr>
        <p:spPr>
          <a:xfrm>
            <a:off x="0" y="2357280"/>
            <a:ext cx="3071880" cy="1000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angre circu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rot fij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4"/>
          <p:cNvSpPr/>
          <p:nvPr/>
        </p:nvSpPr>
        <p:spPr>
          <a:xfrm>
            <a:off x="3564000" y="2997360"/>
            <a:ext cx="865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2556000" y="4145040"/>
            <a:ext cx="22320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5-HO-D</a:t>
            </a:r>
            <a:r>
              <a:rPr b="1" lang="es-AR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>
            <a:off x="5146560" y="4221000"/>
            <a:ext cx="12240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8"/>
          <p:cNvSpPr/>
          <p:nvPr/>
        </p:nvSpPr>
        <p:spPr>
          <a:xfrm>
            <a:off x="3419640" y="3722760"/>
            <a:ext cx="0" cy="288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9"/>
          <p:cNvSpPr/>
          <p:nvPr/>
        </p:nvSpPr>
        <p:spPr>
          <a:xfrm>
            <a:off x="6659640" y="4653000"/>
            <a:ext cx="0" cy="360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61"/>
          <p:cNvSpPr/>
          <p:nvPr/>
        </p:nvSpPr>
        <p:spPr>
          <a:xfrm>
            <a:off x="5580000" y="4724280"/>
            <a:ext cx="792360" cy="10065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2"/>
          <p:cNvSpPr/>
          <p:nvPr/>
        </p:nvSpPr>
        <p:spPr>
          <a:xfrm flipH="1">
            <a:off x="1908000" y="5229360"/>
            <a:ext cx="3672000" cy="3585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3"/>
          <p:cNvSpPr/>
          <p:nvPr/>
        </p:nvSpPr>
        <p:spPr>
          <a:xfrm rot="20864400">
            <a:off x="1884240" y="5444640"/>
            <a:ext cx="30974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aptación Ca</a:t>
            </a:r>
            <a:r>
              <a:rPr b="1" lang="es-AR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5"/>
          <p:cNvSpPr/>
          <p:nvPr/>
        </p:nvSpPr>
        <p:spPr>
          <a:xfrm>
            <a:off x="3851280" y="6165720"/>
            <a:ext cx="1944720" cy="581400"/>
          </a:xfrm>
          <a:prstGeom prst="rect">
            <a:avLst/>
          </a:prstGeom>
          <a:solidFill>
            <a:srgbClr val="f3e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U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6"/>
          <p:cNvSpPr/>
          <p:nvPr/>
        </p:nvSpPr>
        <p:spPr>
          <a:xfrm flipH="1">
            <a:off x="5435640" y="5373720"/>
            <a:ext cx="792000" cy="72072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7"/>
          <p:cNvSpPr/>
          <p:nvPr/>
        </p:nvSpPr>
        <p:spPr>
          <a:xfrm>
            <a:off x="6143760" y="5877000"/>
            <a:ext cx="3058920" cy="52056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sorción O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6"/>
          <p:cNvSpPr/>
          <p:nvPr/>
        </p:nvSpPr>
        <p:spPr>
          <a:xfrm flipV="1">
            <a:off x="258840" y="1355760"/>
            <a:ext cx="6697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6"/>
          <p:cNvGrpSpPr/>
          <p:nvPr/>
        </p:nvGrpSpPr>
        <p:grpSpPr>
          <a:xfrm>
            <a:off x="360360" y="1787400"/>
            <a:ext cx="3292560" cy="557280"/>
            <a:chOff x="360360" y="1787400"/>
            <a:chExt cx="3292560" cy="557280"/>
          </a:xfrm>
        </p:grpSpPr>
        <p:sp>
          <p:nvSpPr>
            <p:cNvPr id="281" name="Freeform 41"/>
            <p:cNvSpPr/>
            <p:nvPr/>
          </p:nvSpPr>
          <p:spPr>
            <a:xfrm>
              <a:off x="360360" y="1787400"/>
              <a:ext cx="66384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2"/>
            <p:cNvSpPr/>
            <p:nvPr/>
          </p:nvSpPr>
          <p:spPr>
            <a:xfrm>
              <a:off x="1019160" y="1814400"/>
              <a:ext cx="69876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3"/>
            <p:cNvSpPr/>
            <p:nvPr/>
          </p:nvSpPr>
          <p:spPr>
            <a:xfrm>
              <a:off x="1698840" y="1814400"/>
              <a:ext cx="65700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4"/>
            <p:cNvSpPr/>
            <p:nvPr/>
          </p:nvSpPr>
          <p:spPr>
            <a:xfrm>
              <a:off x="2346480" y="1814400"/>
              <a:ext cx="65700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5"/>
            <p:cNvSpPr/>
            <p:nvPr/>
          </p:nvSpPr>
          <p:spPr>
            <a:xfrm>
              <a:off x="2995560" y="1814400"/>
              <a:ext cx="65736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47"/>
          <p:cNvGrpSpPr/>
          <p:nvPr/>
        </p:nvGrpSpPr>
        <p:grpSpPr>
          <a:xfrm>
            <a:off x="3643200" y="1787400"/>
            <a:ext cx="3292560" cy="557280"/>
            <a:chOff x="3643200" y="1787400"/>
            <a:chExt cx="3292560" cy="557280"/>
          </a:xfrm>
        </p:grpSpPr>
        <p:sp>
          <p:nvSpPr>
            <p:cNvPr id="287" name="Freeform 48"/>
            <p:cNvSpPr/>
            <p:nvPr/>
          </p:nvSpPr>
          <p:spPr>
            <a:xfrm>
              <a:off x="3643200" y="1787400"/>
              <a:ext cx="66384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9"/>
            <p:cNvSpPr/>
            <p:nvPr/>
          </p:nvSpPr>
          <p:spPr>
            <a:xfrm>
              <a:off x="4302000" y="1814400"/>
              <a:ext cx="69876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50"/>
            <p:cNvSpPr/>
            <p:nvPr/>
          </p:nvSpPr>
          <p:spPr>
            <a:xfrm>
              <a:off x="4981680" y="1814400"/>
              <a:ext cx="65700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1"/>
            <p:cNvSpPr/>
            <p:nvPr/>
          </p:nvSpPr>
          <p:spPr>
            <a:xfrm>
              <a:off x="5629320" y="1814400"/>
              <a:ext cx="65700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52"/>
            <p:cNvSpPr/>
            <p:nvPr/>
          </p:nvSpPr>
          <p:spPr>
            <a:xfrm>
              <a:off x="6278400" y="1814400"/>
              <a:ext cx="65736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53"/>
          <p:cNvSpPr/>
          <p:nvPr/>
        </p:nvSpPr>
        <p:spPr>
          <a:xfrm>
            <a:off x="108000" y="907920"/>
            <a:ext cx="934920" cy="581400"/>
          </a:xfrm>
          <a:prstGeom prst="rect">
            <a:avLst/>
          </a:prstGeom>
          <a:solidFill>
            <a:srgbClr val="ffa8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8"/>
          <p:cNvSpPr/>
          <p:nvPr/>
        </p:nvSpPr>
        <p:spPr>
          <a:xfrm>
            <a:off x="395280" y="1484280"/>
            <a:ext cx="367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-DHC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9"/>
          <p:cNvSpPr/>
          <p:nvPr/>
        </p:nvSpPr>
        <p:spPr>
          <a:xfrm>
            <a:off x="5364000" y="1413000"/>
            <a:ext cx="3564000" cy="106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LECALCIFEROL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CC, Vit D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0"/>
          <p:cNvSpPr/>
          <p:nvPr/>
        </p:nvSpPr>
        <p:spPr>
          <a:xfrm>
            <a:off x="4071960" y="785880"/>
            <a:ext cx="1008000" cy="863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2"/>
          <p:cNvSpPr/>
          <p:nvPr/>
        </p:nvSpPr>
        <p:spPr>
          <a:xfrm>
            <a:off x="4068720" y="1708200"/>
            <a:ext cx="93492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4"/>
          <p:cNvSpPr/>
          <p:nvPr/>
        </p:nvSpPr>
        <p:spPr>
          <a:xfrm>
            <a:off x="6300720" y="4076640"/>
            <a:ext cx="22320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25-HO-D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5"/>
          <p:cNvSpPr/>
          <p:nvPr/>
        </p:nvSpPr>
        <p:spPr>
          <a:xfrm>
            <a:off x="6300720" y="5013360"/>
            <a:ext cx="259236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,25-(HO)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357120" y="0"/>
            <a:ext cx="8515440" cy="785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2800" spc="-1" strike="noStrike">
                <a:solidFill>
                  <a:srgbClr val="008000"/>
                </a:solidFill>
                <a:latin typeface="Arial"/>
              </a:rPr>
              <a:t>VITAMINA D– </a:t>
            </a:r>
            <a:r>
              <a:rPr b="1" lang="es-AR" sz="2800" spc="-1" strike="noStrike">
                <a:solidFill>
                  <a:srgbClr val="008000"/>
                </a:solidFill>
                <a:latin typeface="Comic Sans MS"/>
              </a:rPr>
              <a:t>Síntesis-Metabolismo-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45 CuadroTexto"/>
          <p:cNvSpPr/>
          <p:nvPr/>
        </p:nvSpPr>
        <p:spPr>
          <a:xfrm>
            <a:off x="3507840" y="364320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idrox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47 CuadroTexto"/>
          <p:cNvSpPr/>
          <p:nvPr/>
        </p:nvSpPr>
        <p:spPr>
          <a:xfrm>
            <a:off x="6722640" y="464328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idrox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48 Flecha arriba"/>
          <p:cNvSpPr/>
          <p:nvPr/>
        </p:nvSpPr>
        <p:spPr>
          <a:xfrm>
            <a:off x="6000840" y="5857920"/>
            <a:ext cx="285840" cy="57132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49 Flecha arriba"/>
          <p:cNvSpPr/>
          <p:nvPr/>
        </p:nvSpPr>
        <p:spPr>
          <a:xfrm>
            <a:off x="1714680" y="5715000"/>
            <a:ext cx="285480" cy="571680"/>
          </a:xfrm>
          <a:prstGeom prst="upArrow">
            <a:avLst>
              <a:gd name="adj1" fmla="val 50000"/>
              <a:gd name="adj2" fmla="val 5006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val 4"/>
          <p:cNvSpPr/>
          <p:nvPr/>
        </p:nvSpPr>
        <p:spPr>
          <a:xfrm>
            <a:off x="1979640" y="476280"/>
            <a:ext cx="5040360" cy="446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395280" y="2708280"/>
            <a:ext cx="2592360" cy="18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ELULA D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Intestino, hueso, riñón, pi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3565440" y="1123920"/>
            <a:ext cx="2448000" cy="1727280"/>
          </a:xfrm>
          <a:prstGeom prst="ellipse">
            <a:avLst/>
          </a:prstGeom>
          <a:solidFill>
            <a:srgbClr val="f3e8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UC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9" descr=""/>
          <p:cNvPicPr/>
          <p:nvPr/>
        </p:nvPicPr>
        <p:blipFill>
          <a:blip r:embed="rId1"/>
          <a:srcRect l="21523" t="8955" r="26879" b="75693"/>
          <a:stretch/>
        </p:blipFill>
        <p:spPr>
          <a:xfrm>
            <a:off x="3276720" y="2131920"/>
            <a:ext cx="3456000" cy="8636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308" name="Oval 10"/>
          <p:cNvSpPr/>
          <p:nvPr/>
        </p:nvSpPr>
        <p:spPr>
          <a:xfrm>
            <a:off x="3276720" y="2492280"/>
            <a:ext cx="863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-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>
            <a:off x="5500800" y="2997360"/>
            <a:ext cx="7128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29120" y="5373720"/>
            <a:ext cx="158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2700360" y="5157720"/>
            <a:ext cx="1728720" cy="115092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 flipV="1">
            <a:off x="1907640" y="5084640"/>
            <a:ext cx="721080" cy="4320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79280" y="465300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orción ó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steocl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9"/>
          <p:cNvSpPr/>
          <p:nvPr/>
        </p:nvSpPr>
        <p:spPr>
          <a:xfrm>
            <a:off x="3132000" y="404640"/>
            <a:ext cx="1368720" cy="115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0"/>
          <p:cNvSpPr/>
          <p:nvPr/>
        </p:nvSpPr>
        <p:spPr>
          <a:xfrm flipH="1">
            <a:off x="2050560" y="5950080"/>
            <a:ext cx="576360" cy="287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15 CuadroTexto"/>
          <p:cNvSpPr/>
          <p:nvPr/>
        </p:nvSpPr>
        <p:spPr>
          <a:xfrm>
            <a:off x="6442920" y="0"/>
            <a:ext cx="221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Mecanis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de A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de Vit D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5"/>
          <p:cNvSpPr/>
          <p:nvPr/>
        </p:nvSpPr>
        <p:spPr>
          <a:xfrm>
            <a:off x="285840" y="285840"/>
            <a:ext cx="2592360" cy="57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,25-(HO)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4"/>
          <p:cNvSpPr/>
          <p:nvPr/>
        </p:nvSpPr>
        <p:spPr>
          <a:xfrm>
            <a:off x="6929280" y="5214960"/>
            <a:ext cx="1928880" cy="11509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t. fijad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19 Conector recto"/>
          <p:cNvSpPr/>
          <p:nvPr/>
        </p:nvSpPr>
        <p:spPr>
          <a:xfrm>
            <a:off x="6513480" y="5664240"/>
            <a:ext cx="344520" cy="5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21 Conector recto"/>
          <p:cNvSpPr/>
          <p:nvPr/>
        </p:nvSpPr>
        <p:spPr>
          <a:xfrm flipH="1">
            <a:off x="4500720" y="5661720"/>
            <a:ext cx="428400" cy="1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3 CuadroTexto"/>
          <p:cNvSpPr/>
          <p:nvPr/>
        </p:nvSpPr>
        <p:spPr>
          <a:xfrm>
            <a:off x="433440" y="3286080"/>
            <a:ext cx="28004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HOMEOST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CAL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6 CuadroTexto"/>
          <p:cNvSpPr/>
          <p:nvPr/>
        </p:nvSpPr>
        <p:spPr>
          <a:xfrm>
            <a:off x="4071960" y="1357200"/>
            <a:ext cx="3857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AP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E 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ESDE EL INTES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008000"/>
                </a:solidFill>
                <a:latin typeface="Arial"/>
              </a:rPr>
              <a:t>VITAMINA D  -  </a:t>
            </a:r>
            <a:r>
              <a:rPr b="1" lang="es-AR" sz="4000" spc="-1" strike="noStrike">
                <a:solidFill>
                  <a:srgbClr val="008000"/>
                </a:solidFill>
                <a:latin typeface="Comic Sans MS"/>
              </a:rPr>
              <a:t>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8 Flecha arriba"/>
          <p:cNvSpPr/>
          <p:nvPr/>
        </p:nvSpPr>
        <p:spPr>
          <a:xfrm>
            <a:off x="4500720" y="1428840"/>
            <a:ext cx="285480" cy="571320"/>
          </a:xfrm>
          <a:prstGeom prst="upArrow">
            <a:avLst>
              <a:gd name="adj1" fmla="val 50000"/>
              <a:gd name="adj2" fmla="val 5003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11 CuadroTexto"/>
          <p:cNvSpPr/>
          <p:nvPr/>
        </p:nvSpPr>
        <p:spPr>
          <a:xfrm>
            <a:off x="4143240" y="3071880"/>
            <a:ext cx="3857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</a:rPr>
              <a:t>REABSOR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</a:rPr>
              <a:t>DE 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</a:rPr>
              <a:t>DESDE EL R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12 Flecha arriba"/>
          <p:cNvSpPr/>
          <p:nvPr/>
        </p:nvSpPr>
        <p:spPr>
          <a:xfrm>
            <a:off x="4500720" y="3214800"/>
            <a:ext cx="285480" cy="571320"/>
          </a:xfrm>
          <a:prstGeom prst="upArrow">
            <a:avLst>
              <a:gd name="adj1" fmla="val 50000"/>
              <a:gd name="adj2" fmla="val 5003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13 CuadroTexto"/>
          <p:cNvSpPr/>
          <p:nvPr/>
        </p:nvSpPr>
        <p:spPr>
          <a:xfrm>
            <a:off x="4071960" y="4786200"/>
            <a:ext cx="38577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RESOR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(Liberación</a:t>
            </a:r>
            <a:r>
              <a:rPr b="1" i="1" lang="es-ES_tradnl" sz="2400" spc="-1" strike="noStrike">
                <a:solidFill>
                  <a:srgbClr val="008000"/>
                </a:solidFill>
                <a:latin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DE 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DESDE EL HU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14 Flecha arriba"/>
          <p:cNvSpPr/>
          <p:nvPr/>
        </p:nvSpPr>
        <p:spPr>
          <a:xfrm>
            <a:off x="4572000" y="4929120"/>
            <a:ext cx="285840" cy="571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16 CuadroTexto"/>
          <p:cNvSpPr/>
          <p:nvPr/>
        </p:nvSpPr>
        <p:spPr>
          <a:xfrm>
            <a:off x="14040" y="1571760"/>
            <a:ext cx="3748320" cy="11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1,25-D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(1,25-OH-COLECALCIFE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(forma ac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17 Rayo"/>
          <p:cNvSpPr/>
          <p:nvPr/>
        </p:nvSpPr>
        <p:spPr>
          <a:xfrm>
            <a:off x="1214280" y="2714760"/>
            <a:ext cx="785880" cy="571320"/>
          </a:xfrm>
          <a:prstGeom prst="lightningBol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20 Abrir llave"/>
          <p:cNvSpPr/>
          <p:nvPr/>
        </p:nvSpPr>
        <p:spPr>
          <a:xfrm>
            <a:off x="3500280" y="1357200"/>
            <a:ext cx="571680" cy="5214960"/>
          </a:xfrm>
          <a:custGeom>
            <a:avLst/>
            <a:gdLst>
              <a:gd name="textAreaLeft" fmla="*/ 365400 w 571680"/>
              <a:gd name="textAreaRight" fmla="*/ 572040 w 571680"/>
              <a:gd name="textAreaTop" fmla="*/ 246600 h 5214960"/>
              <a:gd name="textAreaBottom" fmla="*/ 4968360 h 521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3"/>
                  <a:pt x="10800" y="3266"/>
                </a:cubicBezTo>
                <a:lnTo>
                  <a:pt x="10800" y="7534"/>
                </a:lnTo>
                <a:cubicBezTo>
                  <a:pt x="10800" y="9167"/>
                  <a:pt x="5400" y="10800"/>
                  <a:pt x="0" y="10800"/>
                </a:cubicBezTo>
                <a:cubicBezTo>
                  <a:pt x="5400" y="10800"/>
                  <a:pt x="10800" y="12433"/>
                  <a:pt x="10800" y="14066"/>
                </a:cubicBezTo>
                <a:lnTo>
                  <a:pt x="10800" y="18334"/>
                </a:lnTo>
                <a:cubicBezTo>
                  <a:pt x="10800" y="19967"/>
                  <a:pt x="16200" y="21600"/>
                  <a:pt x="21600" y="21600"/>
                </a:cubicBezTo>
              </a:path>
            </a:pathLst>
          </a:custGeom>
          <a:solidFill>
            <a:srgbClr val="008000"/>
          </a:solidFill>
          <a:ln w="190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22 CuadroTexto"/>
          <p:cNvSpPr/>
          <p:nvPr/>
        </p:nvSpPr>
        <p:spPr>
          <a:xfrm>
            <a:off x="0" y="5143680"/>
            <a:ext cx="36432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ANTIEN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ONCEN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DE CALC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EL PLA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s un derivado del colesterol, no está presente en las plant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íntesis endógena (luz solar sobre la piel) –  Vegetarianos: </a:t>
            </a: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Alert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ieta: Aceites de hígado de pescado (colecalciferol), Leche y yema de h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1" descr="pescado"/>
          <p:cNvPicPr/>
          <p:nvPr/>
        </p:nvPicPr>
        <p:blipFill>
          <a:blip r:embed="rId1"/>
          <a:stretch/>
        </p:blipFill>
        <p:spPr>
          <a:xfrm rot="19941600">
            <a:off x="6524640" y="4017960"/>
            <a:ext cx="2286000" cy="28764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3"/>
          <p:cNvSpPr/>
          <p:nvPr/>
        </p:nvSpPr>
        <p:spPr>
          <a:xfrm>
            <a:off x="357120" y="5500800"/>
            <a:ext cx="5786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REQUERIMIENTO DIARIO </a:t>
            </a: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: impreciso porque es sintetizada por el organismo (lactantes, niños y adultos 5-10 </a:t>
            </a:r>
            <a:r>
              <a:rPr b="1" lang="es-AR" sz="1800" spc="-1" strike="noStrike">
                <a:solidFill>
                  <a:srgbClr val="c00000"/>
                </a:solidFill>
                <a:latin typeface="Symbol"/>
                <a:ea typeface="Symbol"/>
              </a:rPr>
              <a:t></a:t>
            </a: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/día Vit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4"/>
          <p:cNvSpPr/>
          <p:nvPr/>
        </p:nvSpPr>
        <p:spPr>
          <a:xfrm>
            <a:off x="5214960" y="2214720"/>
            <a:ext cx="3313080" cy="1008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EGE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5"/>
          <p:cNvSpPr/>
          <p:nvPr/>
        </p:nvSpPr>
        <p:spPr>
          <a:xfrm flipH="1">
            <a:off x="6286680" y="2214720"/>
            <a:ext cx="1366560" cy="115236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6215400" y="2124720"/>
            <a:ext cx="1215360" cy="13114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00040" y="0"/>
            <a:ext cx="822960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3600" spc="-1" strike="noStrike">
                <a:solidFill>
                  <a:srgbClr val="008000"/>
                </a:solidFill>
                <a:latin typeface="Arial"/>
              </a:rPr>
              <a:t>VITAMINA D </a:t>
            </a:r>
            <a:r>
              <a:rPr b="1" lang="es-AR" sz="4000" spc="-1" strike="noStrike">
                <a:solidFill>
                  <a:srgbClr val="008000"/>
                </a:solidFill>
                <a:latin typeface="Arial"/>
              </a:rPr>
              <a:t>-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Fuentes y  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Necesidades d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0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5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0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8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216000" y="2500200"/>
            <a:ext cx="338436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EFI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0" y="4500720"/>
            <a:ext cx="432108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TOX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8"/>
          <p:cNvSpPr/>
          <p:nvPr/>
        </p:nvSpPr>
        <p:spPr>
          <a:xfrm>
            <a:off x="3635280" y="2643120"/>
            <a:ext cx="14400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072040" y="2071800"/>
            <a:ext cx="38894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a7e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aquit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steomal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desmineralización ó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4680000" y="4334040"/>
            <a:ext cx="446400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a7e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umentan Ca y P en sangre y o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lcificaciones en tejidos bl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9"/>
          <p:cNvSpPr/>
          <p:nvPr/>
        </p:nvSpPr>
        <p:spPr>
          <a:xfrm>
            <a:off x="4354560" y="4786200"/>
            <a:ext cx="360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500040" y="0"/>
            <a:ext cx="822960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3600" spc="-1" strike="noStrike">
                <a:solidFill>
                  <a:srgbClr val="008000"/>
                </a:solidFill>
                <a:latin typeface="Arial"/>
              </a:rPr>
              <a:t>VITAMINA D </a:t>
            </a:r>
            <a:r>
              <a:rPr b="1" lang="es-AR" sz="4000" spc="-1" strike="noStrike">
                <a:solidFill>
                  <a:srgbClr val="008000"/>
                </a:solidFill>
                <a:latin typeface="Arial"/>
              </a:rPr>
              <a:t>–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Deficiencias-Tox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250920" y="1413000"/>
            <a:ext cx="8642160" cy="4516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642960" y="0"/>
            <a:ext cx="8501040" cy="13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ff6600"/>
                </a:solidFill>
                <a:latin typeface="Arial"/>
              </a:rPr>
              <a:t>VITAMINA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Sinónimo: </a:t>
            </a:r>
            <a:r>
              <a:rPr b="1" lang="es-AR" sz="2800" spc="-1" strike="noStrike">
                <a:solidFill>
                  <a:srgbClr val="ff6600"/>
                </a:solidFill>
                <a:latin typeface="Comic Sans MS"/>
              </a:rPr>
              <a:t>Tocofe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428760" y="1762200"/>
            <a:ext cx="8167680" cy="3738600"/>
          </a:xfrm>
          <a:prstGeom prst="rect">
            <a:avLst/>
          </a:prstGeom>
          <a:ln w="0">
            <a:noFill/>
          </a:ln>
        </p:spPr>
      </p:pic>
      <p:sp>
        <p:nvSpPr>
          <p:cNvPr id="352" name="4 CuadroTexto"/>
          <p:cNvSpPr/>
          <p:nvPr/>
        </p:nvSpPr>
        <p:spPr>
          <a:xfrm>
            <a:off x="142560" y="6143760"/>
            <a:ext cx="88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col y formas activas de la Vit E. R: cadena lateral de 16C idéntica a la de 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144360" y="2500200"/>
            <a:ext cx="8713800" cy="271476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Son </a:t>
            </a:r>
            <a:r>
              <a:rPr b="1" lang="es-ES_tradnl" sz="2800" spc="-1" strike="noStrike">
                <a:solidFill>
                  <a:srgbClr val="ff0000"/>
                </a:solidFill>
                <a:latin typeface="Arial Narrow"/>
              </a:rPr>
              <a:t>micro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nutriente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rgánicos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esenciales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ra el organismo, presentes en pequeñ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ntidades en l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00000"/>
                </a:solidFill>
                <a:latin typeface="Arial"/>
              </a:rPr>
              <a:t>VITAMINAS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CuadroTexto"/>
          <p:cNvSpPr/>
          <p:nvPr/>
        </p:nvSpPr>
        <p:spPr>
          <a:xfrm>
            <a:off x="3192480" y="17859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Comic Sans MS"/>
              </a:rPr>
              <a:t>¿qué 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5"/>
          <p:cNvSpPr/>
          <p:nvPr/>
        </p:nvSpPr>
        <p:spPr>
          <a:xfrm>
            <a:off x="358920" y="1643040"/>
            <a:ext cx="8642160" cy="5286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otente </a:t>
            </a:r>
            <a:r>
              <a:rPr b="1" lang="es-ES" sz="2800" spc="-1" strike="noStrike">
                <a:solidFill>
                  <a:srgbClr val="ff6600"/>
                </a:solidFill>
                <a:latin typeface="Arial"/>
                <a:ea typeface="Arial"/>
              </a:rPr>
              <a:t>ANTIOXIDANTE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vita la propagación de las reacciones de peroxi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terviene en los procesos inflam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mponente de las membranas celulares donde puede  reaccionar contra los radicales l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642960" y="0"/>
            <a:ext cx="8501040" cy="13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ff6600"/>
                </a:solidFill>
                <a:latin typeface="Arial"/>
              </a:rPr>
              <a:t>VITAMINA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5" descr="HIGADO"/>
          <p:cNvPicPr/>
          <p:nvPr/>
        </p:nvPicPr>
        <p:blipFill>
          <a:blip r:embed="rId1"/>
          <a:srcRect l="0" t="25110" r="6056" b="2760"/>
          <a:stretch/>
        </p:blipFill>
        <p:spPr>
          <a:xfrm>
            <a:off x="2627280" y="4508640"/>
            <a:ext cx="3241800" cy="186192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10"/>
          <p:cNvGrpSpPr/>
          <p:nvPr/>
        </p:nvGrpSpPr>
        <p:grpSpPr>
          <a:xfrm>
            <a:off x="539640" y="2349360"/>
            <a:ext cx="1344600" cy="1871640"/>
            <a:chOff x="539640" y="2349360"/>
            <a:chExt cx="1344600" cy="1871640"/>
          </a:xfrm>
        </p:grpSpPr>
        <p:sp>
          <p:nvSpPr>
            <p:cNvPr id="357" name="Freeform 11"/>
            <p:cNvSpPr/>
            <p:nvPr/>
          </p:nvSpPr>
          <p:spPr>
            <a:xfrm>
              <a:off x="539640" y="2349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2"/>
            <p:cNvSpPr/>
            <p:nvPr/>
          </p:nvSpPr>
          <p:spPr>
            <a:xfrm>
              <a:off x="803160" y="2357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Text Box 13"/>
          <p:cNvSpPr/>
          <p:nvPr/>
        </p:nvSpPr>
        <p:spPr>
          <a:xfrm rot="19789800">
            <a:off x="324360" y="400500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4"/>
          <p:cNvSpPr/>
          <p:nvPr/>
        </p:nvSpPr>
        <p:spPr>
          <a:xfrm>
            <a:off x="1476360" y="1268280"/>
            <a:ext cx="3095640" cy="201636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COFE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+ BI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+ LIP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5"/>
          <p:cNvSpPr/>
          <p:nvPr/>
        </p:nvSpPr>
        <p:spPr>
          <a:xfrm flipH="1">
            <a:off x="1763640" y="3068640"/>
            <a:ext cx="216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6"/>
          <p:cNvSpPr/>
          <p:nvPr/>
        </p:nvSpPr>
        <p:spPr>
          <a:xfrm>
            <a:off x="1908000" y="3405240"/>
            <a:ext cx="2016360" cy="1752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7"/>
          <p:cNvSpPr/>
          <p:nvPr/>
        </p:nvSpPr>
        <p:spPr>
          <a:xfrm rot="19590000">
            <a:off x="3492000" y="2997000"/>
            <a:ext cx="2592360" cy="93636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ILOMIC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8"/>
          <p:cNvSpPr/>
          <p:nvPr/>
        </p:nvSpPr>
        <p:spPr>
          <a:xfrm flipV="1">
            <a:off x="5148360" y="4220640"/>
            <a:ext cx="1368360" cy="792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9"/>
          <p:cNvSpPr/>
          <p:nvPr/>
        </p:nvSpPr>
        <p:spPr>
          <a:xfrm>
            <a:off x="5867280" y="3357720"/>
            <a:ext cx="1440000" cy="792000"/>
          </a:xfrm>
          <a:prstGeom prst="ellipse">
            <a:avLst/>
          </a:prstGeom>
          <a:solidFill>
            <a:srgbClr val="faef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poP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20"/>
          <p:cNvSpPr/>
          <p:nvPr/>
        </p:nvSpPr>
        <p:spPr>
          <a:xfrm>
            <a:off x="6732720" y="1484280"/>
            <a:ext cx="2016000" cy="151308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L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21"/>
          <p:cNvSpPr/>
          <p:nvPr/>
        </p:nvSpPr>
        <p:spPr>
          <a:xfrm>
            <a:off x="8172360" y="1341360"/>
            <a:ext cx="79236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2"/>
          <p:cNvSpPr/>
          <p:nvPr/>
        </p:nvSpPr>
        <p:spPr>
          <a:xfrm flipH="1">
            <a:off x="8459280" y="2565360"/>
            <a:ext cx="73080" cy="230364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23"/>
          <p:cNvSpPr/>
          <p:nvPr/>
        </p:nvSpPr>
        <p:spPr>
          <a:xfrm>
            <a:off x="7885080" y="3573360"/>
            <a:ext cx="1008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F 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7500960" y="48546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RECIÓN (BIL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85840" y="0"/>
            <a:ext cx="851544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VITAMINA E – </a:t>
            </a:r>
            <a:r>
              <a:rPr b="1" lang="es-AR" sz="2800" spc="-1" strike="noStrike">
                <a:solidFill>
                  <a:srgbClr val="ff6600"/>
                </a:solidFill>
                <a:latin typeface="Comic Sans MS"/>
              </a:rPr>
              <a:t>Met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0"/>
          <p:cNvSpPr/>
          <p:nvPr/>
        </p:nvSpPr>
        <p:spPr>
          <a:xfrm>
            <a:off x="0" y="1428840"/>
            <a:ext cx="3241800" cy="18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cidos gra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oliinsatu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membr. celul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3429000" y="2643120"/>
            <a:ext cx="1800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5500800" y="1785960"/>
            <a:ext cx="3311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adical peróxido -Ac.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4357800" y="4714920"/>
            <a:ext cx="3241440" cy="107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c. G. poliins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gene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14800" y="3000240"/>
            <a:ext cx="2652480" cy="825480"/>
          </a:xfrm>
          <a:prstGeom prst="rect">
            <a:avLst/>
          </a:prstGeom>
          <a:solidFill>
            <a:srgbClr val="a7e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species Reactivas del 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7"/>
          <p:cNvSpPr/>
          <p:nvPr/>
        </p:nvSpPr>
        <p:spPr>
          <a:xfrm flipH="1">
            <a:off x="6715080" y="3000240"/>
            <a:ext cx="46080" cy="15796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8"/>
          <p:cNvSpPr/>
          <p:nvPr/>
        </p:nvSpPr>
        <p:spPr>
          <a:xfrm>
            <a:off x="7203960" y="2928960"/>
            <a:ext cx="1440000" cy="5763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6600"/>
                </a:solidFill>
                <a:latin typeface="Arial"/>
              </a:rPr>
              <a:t>Vit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9"/>
          <p:cNvSpPr/>
          <p:nvPr/>
        </p:nvSpPr>
        <p:spPr>
          <a:xfrm>
            <a:off x="7343640" y="3786120"/>
            <a:ext cx="1800360" cy="94716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adical tocofer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0"/>
          <p:cNvSpPr/>
          <p:nvPr/>
        </p:nvSpPr>
        <p:spPr>
          <a:xfrm>
            <a:off x="6786720" y="3071880"/>
            <a:ext cx="431640" cy="1008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357120" y="0"/>
            <a:ext cx="8515440" cy="785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VITAMINA E – </a:t>
            </a:r>
            <a:r>
              <a:rPr b="1" lang="es-AR" sz="2800" spc="-1" strike="noStrike">
                <a:solidFill>
                  <a:srgbClr val="ff6600"/>
                </a:solidFill>
                <a:latin typeface="Comic Sans MS"/>
              </a:rPr>
              <a:t>Función antioxi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500"/>
                            </p:stCondLst>
                            <p:childTnLst>
                              <p:par>
                                <p:cTn id="13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7"/>
          <p:cNvSpPr/>
          <p:nvPr/>
        </p:nvSpPr>
        <p:spPr>
          <a:xfrm>
            <a:off x="179280" y="5013360"/>
            <a:ext cx="305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611280" y="1628640"/>
            <a:ext cx="7489800" cy="289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ceites vege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u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Vegetales ve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 pequeña proporción: Carnes, manteca, Le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aceite"/>
          <p:cNvPicPr/>
          <p:nvPr/>
        </p:nvPicPr>
        <p:blipFill>
          <a:blip r:embed="rId1"/>
          <a:stretch/>
        </p:blipFill>
        <p:spPr>
          <a:xfrm>
            <a:off x="5433840" y="1268280"/>
            <a:ext cx="1946520" cy="2376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nueces"/>
          <p:cNvPicPr/>
          <p:nvPr/>
        </p:nvPicPr>
        <p:blipFill>
          <a:blip r:embed="rId2"/>
          <a:stretch/>
        </p:blipFill>
        <p:spPr>
          <a:xfrm>
            <a:off x="7408800" y="1268280"/>
            <a:ext cx="1735200" cy="212724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7"/>
          <p:cNvSpPr/>
          <p:nvPr/>
        </p:nvSpPr>
        <p:spPr>
          <a:xfrm>
            <a:off x="3564000" y="4653000"/>
            <a:ext cx="5256000" cy="1937880"/>
          </a:xfrm>
          <a:prstGeom prst="rect">
            <a:avLst/>
          </a:prstGeom>
          <a:solidFill>
            <a:srgbClr val="f3e80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dulto 10-15 mg/día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tocof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mbarazada y en lactancia 20 mg/día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tocof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ctante 5 mg/día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tocof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8"/>
          <p:cNvSpPr/>
          <p:nvPr/>
        </p:nvSpPr>
        <p:spPr>
          <a:xfrm>
            <a:off x="3132000" y="4508640"/>
            <a:ext cx="935280" cy="2160360"/>
          </a:xfrm>
          <a:custGeom>
            <a:avLst/>
            <a:gdLst>
              <a:gd name="textAreaLeft" fmla="*/ 597600 w 935280"/>
              <a:gd name="textAreaRight" fmla="*/ 935640 w 93528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500040" y="0"/>
            <a:ext cx="822960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3600" spc="-1" strike="noStrike">
                <a:solidFill>
                  <a:srgbClr val="ff6600"/>
                </a:solidFill>
                <a:latin typeface="Arial"/>
              </a:rPr>
              <a:t>VITAMINA E </a:t>
            </a:r>
            <a:r>
              <a:rPr b="1" lang="es-AR" sz="40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Fuentes y   </a:t>
            </a: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Necesidades d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500"/>
                            </p:stCondLst>
                            <p:childTnLst>
                              <p:par>
                                <p:cTn id="1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4"/>
          <p:cNvSpPr/>
          <p:nvPr/>
        </p:nvSpPr>
        <p:spPr>
          <a:xfrm>
            <a:off x="179280" y="1557360"/>
            <a:ext cx="8785440" cy="4501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duce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cierta fragilidad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los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GLÓBULOS</a:t>
            </a:r>
            <a:r>
              <a:rPr b="1" lang="es-ES" sz="32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ROJO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membran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cién nacid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ematur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observa deficiencia de esta vitamina, lo que provoca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nemia, trombosis, ed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se han observado efectos tóx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500040" y="0"/>
            <a:ext cx="822960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3600" spc="-1" strike="noStrike">
                <a:solidFill>
                  <a:srgbClr val="ff6600"/>
                </a:solidFill>
                <a:latin typeface="Arial"/>
              </a:rPr>
              <a:t>VITAMINA E - </a:t>
            </a: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Deficiencias-Tox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14200" y="1571760"/>
            <a:ext cx="338472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EFI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214200" y="5000760"/>
            <a:ext cx="432144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TOX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1523880" y="1211400"/>
            <a:ext cx="845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1830240" y="3213000"/>
            <a:ext cx="73137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sintetiza en el organismo, en el tracto intestinal, por bacterias intest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viene en el proceso de coagulación: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tivando factores de coagulació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I,VII,IX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oenzim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n reacciones de carbox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u acción es inhibida competitivamente por anticoagulantes (antagonis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00040" y="0"/>
            <a:ext cx="835812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7030a0"/>
                </a:solidFill>
                <a:latin typeface="Arial"/>
              </a:rPr>
              <a:t>VITAMINA 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7030a0"/>
                </a:solidFill>
                <a:latin typeface="Arial"/>
              </a:rPr>
              <a:t>Sinónimo: Vit Antihemorrágica        </a:t>
            </a:r>
            <a:r>
              <a:rPr b="1" lang="es-AR" sz="3200" spc="-1" strike="noStrike">
                <a:solidFill>
                  <a:srgbClr val="7030a0"/>
                </a:solidFill>
                <a:latin typeface="Comic Sans MS"/>
              </a:rPr>
              <a:t>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1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6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1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6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12"/>
          <p:cNvSpPr/>
          <p:nvPr/>
        </p:nvSpPr>
        <p:spPr>
          <a:xfrm>
            <a:off x="7524720" y="3500280"/>
            <a:ext cx="0" cy="1079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5076720" y="4653000"/>
            <a:ext cx="3996000" cy="2022480"/>
          </a:xfrm>
          <a:prstGeom prst="rect">
            <a:avLst/>
          </a:prstGeom>
          <a:solidFill>
            <a:srgbClr val="a7e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Bacterias Intest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 la porción distal de intestino delgado y del 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5"/>
          <p:cNvSpPr/>
          <p:nvPr/>
        </p:nvSpPr>
        <p:spPr>
          <a:xfrm>
            <a:off x="1042920" y="1989000"/>
            <a:ext cx="504720" cy="503280"/>
          </a:xfrm>
          <a:prstGeom prst="ellipse">
            <a:avLst/>
          </a:prstGeom>
          <a:solidFill>
            <a:srgbClr val="bbe0e3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6"/>
          <p:cNvSpPr/>
          <p:nvPr/>
        </p:nvSpPr>
        <p:spPr>
          <a:xfrm>
            <a:off x="6300720" y="1989000"/>
            <a:ext cx="504720" cy="503280"/>
          </a:xfrm>
          <a:prstGeom prst="ellipse">
            <a:avLst/>
          </a:prstGeom>
          <a:solidFill>
            <a:srgbClr val="bbe0e3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7"/>
          <p:cNvSpPr/>
          <p:nvPr/>
        </p:nvSpPr>
        <p:spPr>
          <a:xfrm>
            <a:off x="144360" y="4365720"/>
            <a:ext cx="4643640" cy="94716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oles, lechuga, repollo, hígado y carne de ter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8"/>
          <p:cNvSpPr/>
          <p:nvPr/>
        </p:nvSpPr>
        <p:spPr>
          <a:xfrm>
            <a:off x="395280" y="5516640"/>
            <a:ext cx="3564000" cy="101592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dultos: 65-80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ctantes: 1-2 m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0" descr="http://tbn0.google.com/images?q=tbn:CcgQhy2MHcUoBM:http://www.granjasdeluruguay.com.uy/materiales/verduras-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413000"/>
            <a:ext cx="4537080" cy="276696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 4"/>
          <p:cNvGrpSpPr/>
          <p:nvPr/>
        </p:nvGrpSpPr>
        <p:grpSpPr>
          <a:xfrm>
            <a:off x="179280" y="1844640"/>
            <a:ext cx="8713440" cy="1655280"/>
            <a:chOff x="179280" y="1844640"/>
            <a:chExt cx="8713440" cy="1655280"/>
          </a:xfrm>
        </p:grpSpPr>
        <p:pic>
          <p:nvPicPr>
            <p:cNvPr id="405" name="Picture 5" descr="vitk1"/>
            <p:cNvPicPr/>
            <p:nvPr/>
          </p:nvPicPr>
          <p:blipFill>
            <a:blip r:embed="rId3"/>
            <a:stretch/>
          </p:blipFill>
          <p:spPr>
            <a:xfrm>
              <a:off x="179280" y="1875960"/>
              <a:ext cx="4315680" cy="158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6" descr="vitk2"/>
            <p:cNvPicPr/>
            <p:nvPr/>
          </p:nvPicPr>
          <p:blipFill>
            <a:blip r:embed="rId4"/>
            <a:stretch/>
          </p:blipFill>
          <p:spPr>
            <a:xfrm>
              <a:off x="5371920" y="1844640"/>
              <a:ext cx="3520800" cy="165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Text Box 14"/>
          <p:cNvSpPr/>
          <p:nvPr/>
        </p:nvSpPr>
        <p:spPr>
          <a:xfrm>
            <a:off x="250920" y="3573360"/>
            <a:ext cx="3106800" cy="5205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Filoquin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500040" y="0"/>
            <a:ext cx="835812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3200" spc="-1" strike="noStrike">
                <a:solidFill>
                  <a:srgbClr val="7030a0"/>
                </a:solidFill>
                <a:latin typeface="Arial"/>
              </a:rPr>
              <a:t>VITAMINA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7030a0"/>
                </a:solidFill>
                <a:latin typeface="Comic Sans MS"/>
              </a:rPr>
              <a:t>Fuentes – Necesidade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5857920" y="3643200"/>
            <a:ext cx="2571840" cy="5205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Farnoquin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500"/>
                            </p:stCondLst>
                            <p:childTnLst>
                              <p:par>
                                <p:cTn id="14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4"/>
          <p:cNvSpPr/>
          <p:nvPr/>
        </p:nvSpPr>
        <p:spPr>
          <a:xfrm>
            <a:off x="179280" y="2174760"/>
            <a:ext cx="8785440" cy="3506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morra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identificada para formas  na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Sintética: toxicidad hepática en lacta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500040" y="0"/>
            <a:ext cx="822960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3600" spc="-1" strike="noStrike">
                <a:solidFill>
                  <a:srgbClr val="7030a0"/>
                </a:solidFill>
                <a:latin typeface="Arial"/>
              </a:rPr>
              <a:t>VITAMINA K - </a:t>
            </a:r>
            <a:r>
              <a:rPr b="1" lang="es-AR" sz="3200" spc="-1" strike="noStrike">
                <a:solidFill>
                  <a:srgbClr val="7030a0"/>
                </a:solidFill>
                <a:latin typeface="Comic Sans MS"/>
              </a:rPr>
              <a:t>Deficiencias-Tox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214200" y="1571760"/>
            <a:ext cx="338472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EFI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0" y="3492360"/>
            <a:ext cx="432108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TOX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RESUMEN DE LAS VITAMINAS LIPOSOLU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964720" cy="5445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 excepción de la Vitamina D, se encuentran en alimentos vegetales y animales en distinta prop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 avitaminosis se produce generalmente por mala absorción de lípidos o disminución en la excreción de bi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ueden almacenarse en los tejidos algunas por 2-3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ueden generar hipervitaminosis o intox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1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6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1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6" dur="50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4"/>
          <p:cNvSpPr/>
          <p:nvPr/>
        </p:nvSpPr>
        <p:spPr>
          <a:xfrm>
            <a:off x="714240" y="214200"/>
            <a:ext cx="7772400" cy="1000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62626"/>
                </a:solidFill>
                <a:latin typeface="Arial"/>
                <a:ea typeface="Arial"/>
              </a:rPr>
              <a:t>VITAMIN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62626"/>
                </a:solidFill>
                <a:latin typeface="Arial"/>
                <a:ea typeface="Arial"/>
              </a:rPr>
              <a:t>HIDROSOLUBLES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723960" y="1433520"/>
            <a:ext cx="7777080" cy="2151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itamina C, Vitaminas del Complejo B:  B12, B2, B6, niacina, ácido fólico, biotina y ác. Pantoté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395280" y="3546000"/>
            <a:ext cx="8229600" cy="30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se acumulan en el cuer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e transportan en la sangre unidas a proteínas plasmá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gulan procesos que producen energía metabó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8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8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8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0040" y="428760"/>
            <a:ext cx="832968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Arial"/>
              </a:rPr>
              <a:t>VITAM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omic Sans MS"/>
              </a:rPr>
              <a:t>Propiedades gene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ompuestos orgánicos sin relación entre sí, distintos de carbohidratos, lípidos o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Se encuentran en los alimentos naturales en concentraciones muy baj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Son </a:t>
            </a:r>
            <a:r>
              <a:rPr b="1" i="1" lang="es-ES_tradnl" sz="2400" spc="-1" strike="noStrike">
                <a:solidFill>
                  <a:srgbClr val="c00000"/>
                </a:solidFill>
                <a:latin typeface="Arial"/>
              </a:rPr>
              <a:t>esenciales: 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no pueden ser sintetizadas por el organismo, deben ser provistas por l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on indispensables para mantener la salud y el crecimiento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Sus deficiencias ocasionan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la aparición de enfermedade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4 CuadroTexto"/>
          <p:cNvSpPr/>
          <p:nvPr/>
        </p:nvSpPr>
        <p:spPr>
          <a:xfrm>
            <a:off x="797400" y="857160"/>
            <a:ext cx="2331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mplejo n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5 CuadroTexto"/>
          <p:cNvSpPr/>
          <p:nvPr/>
        </p:nvSpPr>
        <p:spPr>
          <a:xfrm>
            <a:off x="5439240" y="857160"/>
            <a:ext cx="1873800" cy="459720"/>
          </a:xfrm>
          <a:prstGeom prst="rect">
            <a:avLst/>
          </a:prstGeom>
          <a:solidFill>
            <a:srgbClr val="f73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mplej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714240" y="0"/>
            <a:ext cx="7772400" cy="5716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VITAMINAS HIDROSOLUBLES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9 Rectángulo"/>
          <p:cNvSpPr/>
          <p:nvPr/>
        </p:nvSpPr>
        <p:spPr>
          <a:xfrm>
            <a:off x="5511960" y="4286160"/>
            <a:ext cx="300924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O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Co-Enz reacc. biosí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0 Rectángulo"/>
          <p:cNvSpPr/>
          <p:nvPr/>
        </p:nvSpPr>
        <p:spPr>
          <a:xfrm>
            <a:off x="219960" y="1643040"/>
            <a:ext cx="2061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Ácido Ascórb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(Vit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1 Rectángulo"/>
          <p:cNvSpPr/>
          <p:nvPr/>
        </p:nvSpPr>
        <p:spPr>
          <a:xfrm>
            <a:off x="3013920" y="1714680"/>
            <a:ext cx="300780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Liberadoras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(Co-Enzi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12 Rectángulo"/>
          <p:cNvSpPr/>
          <p:nvPr/>
        </p:nvSpPr>
        <p:spPr>
          <a:xfrm>
            <a:off x="5715000" y="5308560"/>
            <a:ext cx="2286000" cy="20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iridoxina   (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iridox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iridox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14 Rectángulo"/>
          <p:cNvSpPr/>
          <p:nvPr/>
        </p:nvSpPr>
        <p:spPr>
          <a:xfrm>
            <a:off x="6429240" y="1643040"/>
            <a:ext cx="2500560" cy="1008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Hematopoyétic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(Biosíntesis cé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anguíne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15 Rectángulo"/>
          <p:cNvSpPr/>
          <p:nvPr/>
        </p:nvSpPr>
        <p:spPr>
          <a:xfrm>
            <a:off x="2928960" y="2786040"/>
            <a:ext cx="2428920" cy="377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Tiamina        (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iboflavina  (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iacina        (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Ácido Pantoté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16 Rectángulo"/>
          <p:cNvSpPr/>
          <p:nvPr/>
        </p:nvSpPr>
        <p:spPr>
          <a:xfrm>
            <a:off x="6500880" y="3000240"/>
            <a:ext cx="2357280" cy="12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Ácido Fólico 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20 Conector recto"/>
          <p:cNvSpPr/>
          <p:nvPr/>
        </p:nvSpPr>
        <p:spPr>
          <a:xfrm flipH="1">
            <a:off x="1498680" y="128592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24 Conector recto"/>
          <p:cNvSpPr/>
          <p:nvPr/>
        </p:nvSpPr>
        <p:spPr>
          <a:xfrm flipH="1">
            <a:off x="5571720" y="1357200"/>
            <a:ext cx="1800" cy="35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25 Conector recto"/>
          <p:cNvSpPr/>
          <p:nvPr/>
        </p:nvSpPr>
        <p:spPr>
          <a:xfrm flipH="1">
            <a:off x="7000920" y="128592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26 Conector recto"/>
          <p:cNvSpPr/>
          <p:nvPr/>
        </p:nvSpPr>
        <p:spPr>
          <a:xfrm flipH="1">
            <a:off x="4142880" y="2428920"/>
            <a:ext cx="18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27 Conector recto"/>
          <p:cNvSpPr/>
          <p:nvPr/>
        </p:nvSpPr>
        <p:spPr>
          <a:xfrm flipH="1">
            <a:off x="7570800" y="264312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28 Conector recto"/>
          <p:cNvSpPr/>
          <p:nvPr/>
        </p:nvSpPr>
        <p:spPr>
          <a:xfrm flipH="1">
            <a:off x="6356520" y="500076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29 Conector recto"/>
          <p:cNvSpPr/>
          <p:nvPr/>
        </p:nvSpPr>
        <p:spPr>
          <a:xfrm flipH="1">
            <a:off x="6286680" y="1357200"/>
            <a:ext cx="144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32 Conector recto"/>
          <p:cNvSpPr/>
          <p:nvPr/>
        </p:nvSpPr>
        <p:spPr>
          <a:xfrm flipH="1">
            <a:off x="2142720" y="500040"/>
            <a:ext cx="18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33 Conector recto"/>
          <p:cNvSpPr/>
          <p:nvPr/>
        </p:nvSpPr>
        <p:spPr>
          <a:xfrm flipH="1">
            <a:off x="6286680" y="50004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4"/>
          <p:cNvSpPr/>
          <p:nvPr/>
        </p:nvSpPr>
        <p:spPr>
          <a:xfrm>
            <a:off x="71280" y="1341360"/>
            <a:ext cx="9144000" cy="47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itamin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enzim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Tiamin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Tiamina Pirofosfato Descarboxilación oxid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boflavina  FAD, FM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Oxido- 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Niacin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NAD, NADP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xido 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 Pantotén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Coenzima A         Transferencia de grupos a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ridoxal      Piridoxal fosfato     Transan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otin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biotinil                    Carbox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ido fólico      Tetra hidrofolato    Transferencia de unidad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un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Cianocobalamina   Met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"/>
          <p:cNvSpPr/>
          <p:nvPr/>
        </p:nvSpPr>
        <p:spPr>
          <a:xfrm>
            <a:off x="571680" y="-71280"/>
            <a:ext cx="835812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br>
              <a:rPr sz="2800"/>
            </a:br>
            <a:r>
              <a:rPr b="1" lang="es-AR" sz="4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Sinónimos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ff0066"/>
                </a:solidFill>
                <a:latin typeface="Comic Sans MS"/>
              </a:rPr>
              <a:t>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4"/>
          <p:cNvSpPr/>
          <p:nvPr/>
        </p:nvSpPr>
        <p:spPr>
          <a:xfrm>
            <a:off x="179280" y="3284640"/>
            <a:ext cx="2448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 algn="ctr"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TI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0" y="5143680"/>
            <a:ext cx="338472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Pirofosfato de Ti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SimSun"/>
              </a:rPr>
              <a:t>(T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1547640" y="386064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1547640" y="4437000"/>
            <a:ext cx="122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8"/>
          <p:cNvSpPr/>
          <p:nvPr/>
        </p:nvSpPr>
        <p:spPr>
          <a:xfrm>
            <a:off x="1187280" y="3789360"/>
            <a:ext cx="0" cy="11509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6"/>
          <p:cNvSpPr/>
          <p:nvPr/>
        </p:nvSpPr>
        <p:spPr>
          <a:xfrm>
            <a:off x="1189080" y="4076640"/>
            <a:ext cx="287280" cy="647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285840" y="71280"/>
            <a:ext cx="864396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222268"/>
                </a:solidFill>
                <a:latin typeface="Arial"/>
              </a:rPr>
              <a:t>TIAMINA ó VIT B</a:t>
            </a:r>
            <a:r>
              <a:rPr b="1" lang="es-AR" sz="3600" spc="-1" strike="noStrike" baseline="-25000">
                <a:solidFill>
                  <a:srgbClr val="222268"/>
                </a:solidFill>
                <a:latin typeface="Arial"/>
              </a:rPr>
              <a:t>1</a:t>
            </a:r>
            <a:r>
              <a:rPr b="1" lang="es-AR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222268"/>
                </a:solidFill>
                <a:latin typeface="Comic Sans MS"/>
              </a:rPr>
              <a:t>Funciones</a:t>
            </a:r>
            <a:r>
              <a:rPr b="1" lang="es-AR" sz="3600" spc="-1" strike="noStrike">
                <a:solidFill>
                  <a:srgbClr val="222268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20 CuadroTexto"/>
          <p:cNvSpPr/>
          <p:nvPr/>
        </p:nvSpPr>
        <p:spPr>
          <a:xfrm>
            <a:off x="3282840" y="3214800"/>
            <a:ext cx="591048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Arial"/>
              </a:rPr>
              <a:t>Cofactor de 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d2d8a"/>
                </a:solidFill>
                <a:latin typeface="Arial"/>
              </a:rPr>
              <a:t>Descarboxilación oxidativ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d2d8a"/>
                </a:solidFill>
                <a:latin typeface="Arial"/>
              </a:rPr>
              <a:t>alfa-ceto 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Piruvato 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alfa-Cetoglutarato deshidroge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(C de Kre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d2d8a"/>
                </a:solidFill>
                <a:latin typeface="Arial"/>
              </a:rPr>
              <a:t>Transferencia de grupo cetol (2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Transcetolasa (Vía de las Pentosas-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7" descr=""/>
          <p:cNvPicPr/>
          <p:nvPr/>
        </p:nvPicPr>
        <p:blipFill>
          <a:blip r:embed="rId1"/>
          <a:stretch/>
        </p:blipFill>
        <p:spPr>
          <a:xfrm>
            <a:off x="184320" y="1571760"/>
            <a:ext cx="43876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8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0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285840" y="71280"/>
            <a:ext cx="864396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222268"/>
                </a:solidFill>
                <a:latin typeface="Arial"/>
              </a:rPr>
              <a:t>TIAMINA ó VIT B</a:t>
            </a:r>
            <a:r>
              <a:rPr b="1" lang="es-AR" sz="3600" spc="-1" strike="noStrike" baseline="-25000">
                <a:solidFill>
                  <a:srgbClr val="222268"/>
                </a:solidFill>
                <a:latin typeface="Arial"/>
              </a:rPr>
              <a:t>1</a:t>
            </a:r>
            <a:r>
              <a:rPr b="1" lang="es-AR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222268"/>
                </a:solidFill>
                <a:latin typeface="Comic Sans MS"/>
              </a:rPr>
              <a:t>Fuentes – Necesidades diarias</a:t>
            </a:r>
            <a:r>
              <a:rPr b="1" lang="es-AR" sz="3600" spc="-1" strike="noStrike">
                <a:solidFill>
                  <a:srgbClr val="222268"/>
                </a:solidFill>
                <a:latin typeface="Comic Sans MS"/>
              </a:rPr>
              <a:t>    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5"/>
          <p:cNvSpPr/>
          <p:nvPr/>
        </p:nvSpPr>
        <p:spPr>
          <a:xfrm>
            <a:off x="285840" y="1500120"/>
            <a:ext cx="4535280" cy="3764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Fuentes de ob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ereales integ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igado y carne de Cer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evad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roductos Láct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egu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8" descr="trigo"/>
          <p:cNvPicPr/>
          <p:nvPr/>
        </p:nvPicPr>
        <p:blipFill>
          <a:blip r:embed="rId1"/>
          <a:stretch/>
        </p:blipFill>
        <p:spPr>
          <a:xfrm>
            <a:off x="5429160" y="157176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8" descr="carne cerdo"/>
          <p:cNvPicPr/>
          <p:nvPr/>
        </p:nvPicPr>
        <p:blipFill>
          <a:blip r:embed="rId2"/>
          <a:stretch/>
        </p:blipFill>
        <p:spPr>
          <a:xfrm>
            <a:off x="6929280" y="250020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30"/>
          <p:cNvSpPr/>
          <p:nvPr/>
        </p:nvSpPr>
        <p:spPr>
          <a:xfrm>
            <a:off x="857160" y="6072120"/>
            <a:ext cx="4248360" cy="52056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vitaminosis: Beri B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1"/>
          <p:cNvSpPr/>
          <p:nvPr/>
        </p:nvSpPr>
        <p:spPr>
          <a:xfrm>
            <a:off x="0" y="5286240"/>
            <a:ext cx="7632720" cy="52056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querimiento nutricional: 0,9-1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6" descr="images"/>
          <p:cNvPicPr/>
          <p:nvPr/>
        </p:nvPicPr>
        <p:blipFill>
          <a:blip r:embed="rId3"/>
          <a:stretch/>
        </p:blipFill>
        <p:spPr>
          <a:xfrm>
            <a:off x="5857920" y="378612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0" dur="indefinite" restart="never" nodeType="tmRoot">
          <p:childTnLst>
            <p:seq>
              <p:cTn id="1701" dur="indefinite" nodeType="mainSeq">
                <p:childTnLst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8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0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38"/>
          <p:cNvGrpSpPr/>
          <p:nvPr/>
        </p:nvGrpSpPr>
        <p:grpSpPr>
          <a:xfrm>
            <a:off x="428760" y="1693800"/>
            <a:ext cx="3282840" cy="3646800"/>
            <a:chOff x="428760" y="1693800"/>
            <a:chExt cx="3282840" cy="3646800"/>
          </a:xfrm>
        </p:grpSpPr>
        <p:pic>
          <p:nvPicPr>
            <p:cNvPr id="457" name="Picture 6" descr="B2-riboflavin"/>
            <p:cNvPicPr/>
            <p:nvPr/>
          </p:nvPicPr>
          <p:blipFill>
            <a:blip r:embed="rId1"/>
            <a:stretch/>
          </p:blipFill>
          <p:spPr>
            <a:xfrm>
              <a:off x="428760" y="1693800"/>
              <a:ext cx="328284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19"/>
            <p:cNvSpPr/>
            <p:nvPr/>
          </p:nvSpPr>
          <p:spPr>
            <a:xfrm>
              <a:off x="1111680" y="4759200"/>
              <a:ext cx="25318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000000"/>
                  </a:solidFill>
                  <a:latin typeface="Arial"/>
                </a:rPr>
                <a:t>Riboflavi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 Box 21"/>
          <p:cNvSpPr/>
          <p:nvPr/>
        </p:nvSpPr>
        <p:spPr>
          <a:xfrm>
            <a:off x="642960" y="5286240"/>
            <a:ext cx="2879640" cy="5814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FAD) (F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3"/>
          <p:cNvSpPr/>
          <p:nvPr/>
        </p:nvSpPr>
        <p:spPr>
          <a:xfrm>
            <a:off x="398520" y="5911920"/>
            <a:ext cx="845964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viene  como cofactor enzimático en el metabolismo energético de 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285840" y="71280"/>
            <a:ext cx="8643960" cy="16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66"/>
                </a:solidFill>
                <a:latin typeface="Arial"/>
              </a:rPr>
              <a:t>RIBOFLAVINA ó VIT B</a:t>
            </a:r>
            <a:r>
              <a:rPr b="1" lang="es-AR" sz="3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s-AR" sz="36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0066"/>
                </a:solidFill>
                <a:latin typeface="Comic Sans MS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9 CuadroTexto"/>
          <p:cNvSpPr/>
          <p:nvPr/>
        </p:nvSpPr>
        <p:spPr>
          <a:xfrm>
            <a:off x="3714840" y="1571760"/>
            <a:ext cx="54291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tegrante de CO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talizan reaccion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óxido-re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j: Flavoprot FMN-Complejo I-Transp. Elect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j:Succinato deshidrogenasa-Complejo II- Transp. Electr., C de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5"/>
          <p:cNvSpPr/>
          <p:nvPr/>
        </p:nvSpPr>
        <p:spPr>
          <a:xfrm>
            <a:off x="2340000" y="4941720"/>
            <a:ext cx="4392720" cy="202248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            Hombres: 1, 1 mg/ d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jeres: 0,9 mg. / 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68360" y="1916280"/>
            <a:ext cx="489744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(Se destruye por luz 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4" descr="carne sana"/>
          <p:cNvPicPr/>
          <p:nvPr/>
        </p:nvPicPr>
        <p:blipFill>
          <a:blip r:embed="rId1"/>
          <a:stretch/>
        </p:blipFill>
        <p:spPr>
          <a:xfrm>
            <a:off x="5580000" y="2133720"/>
            <a:ext cx="3240000" cy="24415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0" descr="images"/>
          <p:cNvPicPr/>
          <p:nvPr/>
        </p:nvPicPr>
        <p:blipFill>
          <a:blip r:embed="rId2"/>
          <a:stretch/>
        </p:blipFill>
        <p:spPr>
          <a:xfrm>
            <a:off x="2771640" y="1903320"/>
            <a:ext cx="2030400" cy="203040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2"/>
          <p:cNvSpPr/>
          <p:nvPr/>
        </p:nvSpPr>
        <p:spPr>
          <a:xfrm>
            <a:off x="285840" y="71280"/>
            <a:ext cx="8643960" cy="157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73bab"/>
                </a:solidFill>
                <a:latin typeface="Arial"/>
              </a:rPr>
              <a:t>RIBOFLAVINA ó VIT B</a:t>
            </a:r>
            <a:r>
              <a:rPr b="1" lang="es-AR" sz="3600" spc="-1" strike="noStrike" baseline="-25000">
                <a:solidFill>
                  <a:srgbClr val="f73bab"/>
                </a:solidFill>
                <a:latin typeface="Arial"/>
              </a:rPr>
              <a:t>2</a:t>
            </a:r>
            <a:r>
              <a:rPr b="1" lang="es-AR" sz="3600" spc="-1" strike="noStrike">
                <a:solidFill>
                  <a:srgbClr val="f73ba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2268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222268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222268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222268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222268"/>
                </a:solidFill>
                <a:latin typeface="Comic Sans MS"/>
              </a:rPr>
              <a:t>Fuentes – Necesidades diarias</a:t>
            </a:r>
            <a:r>
              <a:rPr b="1" lang="es-AR" sz="3600" spc="-1" strike="noStrike">
                <a:solidFill>
                  <a:srgbClr val="222268"/>
                </a:solidFill>
                <a:latin typeface="Comic Sans MS"/>
              </a:rPr>
              <a:t>    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8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8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8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8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37"/>
          <p:cNvGrpSpPr/>
          <p:nvPr/>
        </p:nvGrpSpPr>
        <p:grpSpPr>
          <a:xfrm>
            <a:off x="857160" y="1928880"/>
            <a:ext cx="2819160" cy="3043800"/>
            <a:chOff x="857160" y="1928880"/>
            <a:chExt cx="2819160" cy="3043800"/>
          </a:xfrm>
        </p:grpSpPr>
        <p:grpSp>
          <p:nvGrpSpPr>
            <p:cNvPr id="469" name="Group 35"/>
            <p:cNvGrpSpPr/>
            <p:nvPr/>
          </p:nvGrpSpPr>
          <p:grpSpPr>
            <a:xfrm>
              <a:off x="857160" y="1928880"/>
              <a:ext cx="2749680" cy="2465640"/>
              <a:chOff x="857160" y="1928880"/>
              <a:chExt cx="2749680" cy="2465640"/>
            </a:xfrm>
          </p:grpSpPr>
          <p:sp>
            <p:nvSpPr>
              <p:cNvPr id="470" name="Text Box 24"/>
              <p:cNvSpPr/>
              <p:nvPr/>
            </p:nvSpPr>
            <p:spPr>
              <a:xfrm>
                <a:off x="1420920" y="1928880"/>
                <a:ext cx="5641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1" name="Picture 26" descr="NAD"/>
              <p:cNvPicPr/>
              <p:nvPr/>
            </p:nvPicPr>
            <p:blipFill>
              <a:blip r:embed="rId1"/>
              <a:srcRect l="-3436" t="48821" r="69095" b="-1364"/>
              <a:stretch/>
            </p:blipFill>
            <p:spPr>
              <a:xfrm>
                <a:off x="857160" y="2543760"/>
                <a:ext cx="2749680" cy="180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Text Box 28"/>
              <p:cNvSpPr/>
              <p:nvPr/>
            </p:nvSpPr>
            <p:spPr>
              <a:xfrm>
                <a:off x="1279440" y="2270880"/>
                <a:ext cx="705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 Box 29"/>
              <p:cNvSpPr/>
              <p:nvPr/>
            </p:nvSpPr>
            <p:spPr>
              <a:xfrm>
                <a:off x="1420920" y="3569040"/>
                <a:ext cx="422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│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Text Box 31"/>
            <p:cNvSpPr/>
            <p:nvPr/>
          </p:nvSpPr>
          <p:spPr>
            <a:xfrm>
              <a:off x="926640" y="4391280"/>
              <a:ext cx="27496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icotinami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 Box 32"/>
          <p:cNvSpPr/>
          <p:nvPr/>
        </p:nvSpPr>
        <p:spPr>
          <a:xfrm>
            <a:off x="857160" y="5072040"/>
            <a:ext cx="2879640" cy="5814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AD (NA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3"/>
          <p:cNvSpPr/>
          <p:nvPr/>
        </p:nvSpPr>
        <p:spPr>
          <a:xfrm>
            <a:off x="398520" y="5911920"/>
            <a:ext cx="845964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viene  como cofactor enzimático en el metabolismo energético de 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280"/>
            <a:ext cx="8643960" cy="16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6600"/>
                </a:solidFill>
                <a:latin typeface="Arial"/>
              </a:rPr>
              <a:t>NIACINA ó VIT B</a:t>
            </a:r>
            <a:r>
              <a:rPr b="1" lang="es-AR" sz="3600" spc="-1" strike="noStrike" baseline="-25000">
                <a:solidFill>
                  <a:srgbClr val="ff66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baseline="-25000">
                <a:solidFill>
                  <a:srgbClr val="ff6600"/>
                </a:solidFill>
                <a:latin typeface="Arial"/>
              </a:rPr>
              <a:t>Sinónimo: Ac. Nicotínico</a:t>
            </a:r>
            <a:r>
              <a:rPr b="1" lang="es-AR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15 CuadroTexto"/>
          <p:cNvSpPr/>
          <p:nvPr/>
        </p:nvSpPr>
        <p:spPr>
          <a:xfrm>
            <a:off x="3733200" y="2143080"/>
            <a:ext cx="555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talizan reaccion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óxido-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j: en C de Kre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socitrato 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fa-ceto-glutarato 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lato 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0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2"/>
          <p:cNvSpPr/>
          <p:nvPr/>
        </p:nvSpPr>
        <p:spPr>
          <a:xfrm>
            <a:off x="468360" y="4219560"/>
            <a:ext cx="5076720" cy="18180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ombres: 12,0 mg/ d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jeres: 11 mg. / 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3"/>
          <p:cNvSpPr/>
          <p:nvPr/>
        </p:nvSpPr>
        <p:spPr>
          <a:xfrm>
            <a:off x="395280" y="1341360"/>
            <a:ext cx="43210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ereales integ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ar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es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Triptof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7" descr="pescado"/>
          <p:cNvPicPr/>
          <p:nvPr/>
        </p:nvPicPr>
        <p:blipFill>
          <a:blip r:embed="rId1"/>
          <a:stretch/>
        </p:blipFill>
        <p:spPr>
          <a:xfrm>
            <a:off x="4716360" y="1628640"/>
            <a:ext cx="1776600" cy="223380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19"/>
          <p:cNvSpPr/>
          <p:nvPr/>
        </p:nvSpPr>
        <p:spPr>
          <a:xfrm>
            <a:off x="324000" y="6237360"/>
            <a:ext cx="511164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vitaminosis: Pelag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0"/>
          <p:cNvSpPr/>
          <p:nvPr/>
        </p:nvSpPr>
        <p:spPr>
          <a:xfrm>
            <a:off x="5940360" y="4724280"/>
            <a:ext cx="2519280" cy="1555920"/>
          </a:xfrm>
          <a:prstGeom prst="ellipse">
            <a:avLst/>
          </a:prstGeom>
          <a:solidFill>
            <a:srgbClr val="ea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rm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iar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m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5" descr="carne vaca"/>
          <p:cNvPicPr/>
          <p:nvPr/>
        </p:nvPicPr>
        <p:blipFill>
          <a:blip r:embed="rId2"/>
          <a:stretch/>
        </p:blipFill>
        <p:spPr>
          <a:xfrm>
            <a:off x="6300720" y="1268280"/>
            <a:ext cx="2592360" cy="17352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2"/>
          <p:cNvSpPr/>
          <p:nvPr/>
        </p:nvSpPr>
        <p:spPr>
          <a:xfrm>
            <a:off x="285840" y="71280"/>
            <a:ext cx="864396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NIACINA ó VIT B3 </a:t>
            </a: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Fuentes – Necesidade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500"/>
                            </p:stCondLst>
                            <p:childTnLst>
                              <p:par>
                                <p:cTn id="18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1" dur="8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2" dur="8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8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8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5" descr="biotin"/>
          <p:cNvPicPr/>
          <p:nvPr/>
        </p:nvPicPr>
        <p:blipFill>
          <a:blip r:embed="rId1"/>
          <a:stretch/>
        </p:blipFill>
        <p:spPr>
          <a:xfrm>
            <a:off x="0" y="1413000"/>
            <a:ext cx="3600360" cy="210492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6"/>
          <p:cNvSpPr/>
          <p:nvPr/>
        </p:nvSpPr>
        <p:spPr>
          <a:xfrm>
            <a:off x="468360" y="3645000"/>
            <a:ext cx="7921440" cy="2969640"/>
          </a:xfrm>
          <a:prstGeom prst="rect">
            <a:avLst/>
          </a:prstGeom>
          <a:gradFill rotWithShape="0">
            <a:gsLst>
              <a:gs pos="0">
                <a:srgbClr val="6c744b"/>
              </a:gs>
              <a:gs pos="50000">
                <a:srgbClr val="eafba3"/>
              </a:gs>
              <a:gs pos="100000">
                <a:srgbClr val="6c74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Arial"/>
              </a:rPr>
              <a:t>FUNCIO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ACTÚA COMO </a:t>
            </a:r>
            <a:r>
              <a:rPr b="1" lang="es-ES" sz="3200" spc="-1" strike="noStrike" u="sng">
                <a:solidFill>
                  <a:srgbClr val="0000ff"/>
                </a:solidFill>
                <a:uFillTx/>
                <a:latin typeface="Arial"/>
              </a:rPr>
              <a:t>COENZIMA 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DE REACCIONES DE CARBOXILACIÓN Y TRANSFERENCIA DE GRUPOS AC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3708360" y="2205000"/>
            <a:ext cx="2462400" cy="5814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-Bio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214200" y="0"/>
            <a:ext cx="864396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BIOTINA O VITAMINA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8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6" dur="8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8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8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5"/>
          <p:cNvSpPr/>
          <p:nvPr/>
        </p:nvSpPr>
        <p:spPr>
          <a:xfrm>
            <a:off x="1116000" y="1422360"/>
            <a:ext cx="5435640" cy="428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acterias Intest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Yema de h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evad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u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6" descr="nueces"/>
          <p:cNvPicPr/>
          <p:nvPr/>
        </p:nvPicPr>
        <p:blipFill>
          <a:blip r:embed="rId1"/>
          <a:stretch/>
        </p:blipFill>
        <p:spPr>
          <a:xfrm>
            <a:off x="6651720" y="3500280"/>
            <a:ext cx="1881000" cy="230508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7"/>
          <p:cNvSpPr/>
          <p:nvPr/>
        </p:nvSpPr>
        <p:spPr>
          <a:xfrm>
            <a:off x="216000" y="5945040"/>
            <a:ext cx="85327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lara de huevo cruda inhibe su absor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8" descr="images"/>
          <p:cNvPicPr/>
          <p:nvPr/>
        </p:nvPicPr>
        <p:blipFill>
          <a:blip r:embed="rId2"/>
          <a:stretch/>
        </p:blipFill>
        <p:spPr>
          <a:xfrm>
            <a:off x="6588000" y="1628640"/>
            <a:ext cx="1957680" cy="195768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11"/>
          <p:cNvSpPr/>
          <p:nvPr/>
        </p:nvSpPr>
        <p:spPr>
          <a:xfrm>
            <a:off x="3276720" y="4724280"/>
            <a:ext cx="3313080" cy="1169280"/>
          </a:xfrm>
          <a:prstGeom prst="rect">
            <a:avLst/>
          </a:prstGeom>
          <a:solidFill>
            <a:srgbClr val="05e1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BIOTINA O VITAMINA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Fuentes – Necesidade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500"/>
                            </p:stCondLst>
                            <p:childTnLst>
                              <p:par>
                                <p:cTn id="1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5 CuadroTexto"/>
          <p:cNvSpPr/>
          <p:nvPr/>
        </p:nvSpPr>
        <p:spPr>
          <a:xfrm>
            <a:off x="428760" y="214200"/>
            <a:ext cx="8429400" cy="611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7030a0"/>
                </a:solidFill>
                <a:uFillTx/>
                <a:latin typeface="Arial"/>
              </a:rPr>
              <a:t>No</a:t>
            </a:r>
            <a:r>
              <a:rPr b="1" lang="es-ES_tradnl" sz="2400" spc="-1" strike="noStrike">
                <a:solidFill>
                  <a:srgbClr val="7030a0"/>
                </a:solidFill>
                <a:latin typeface="Arial"/>
              </a:rPr>
              <a:t> cumplen funciones energ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Actúan como COENZIMAS o GRUPO PROSTÉTICO de las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Algunas son ANTIOXID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Participan regulando el metabolismo de nutrientes, síntesis de hormonas y neurotransmis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2 Rectángulo"/>
          <p:cNvSpPr/>
          <p:nvPr/>
        </p:nvSpPr>
        <p:spPr>
          <a:xfrm>
            <a:off x="2244240" y="285840"/>
            <a:ext cx="502596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Arial"/>
              </a:rPr>
              <a:t>VITAM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omic Sans MS"/>
              </a:rPr>
              <a:t>Funciones gene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8"/>
          <p:cNvGrpSpPr/>
          <p:nvPr/>
        </p:nvGrpSpPr>
        <p:grpSpPr>
          <a:xfrm>
            <a:off x="1511280" y="2565360"/>
            <a:ext cx="1344600" cy="1871640"/>
            <a:chOff x="1511280" y="2565360"/>
            <a:chExt cx="1344600" cy="1871640"/>
          </a:xfrm>
        </p:grpSpPr>
        <p:sp>
          <p:nvSpPr>
            <p:cNvPr id="497" name="Freeform 9"/>
            <p:cNvSpPr/>
            <p:nvPr/>
          </p:nvSpPr>
          <p:spPr>
            <a:xfrm>
              <a:off x="1511280" y="2565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1774800" y="2573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 Box 11"/>
          <p:cNvSpPr/>
          <p:nvPr/>
        </p:nvSpPr>
        <p:spPr>
          <a:xfrm rot="19789800">
            <a:off x="1295640" y="422064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 flipH="1">
            <a:off x="2268000" y="1989000"/>
            <a:ext cx="129708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611280" y="1557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ORTE ACTIVO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4859280" y="2421000"/>
            <a:ext cx="3816360" cy="579600"/>
          </a:xfrm>
          <a:prstGeom prst="rect">
            <a:avLst/>
          </a:prstGeom>
          <a:solidFill>
            <a:srgbClr val="ff9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LISINA    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7"/>
          <p:cNvSpPr/>
          <p:nvPr/>
        </p:nvSpPr>
        <p:spPr>
          <a:xfrm>
            <a:off x="7308720" y="2637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5292720" y="4076640"/>
            <a:ext cx="3311640" cy="520560"/>
          </a:xfrm>
          <a:prstGeom prst="rect">
            <a:avLst/>
          </a:prstGeom>
          <a:solidFill>
            <a:srgbClr val="ff9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O    BIO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9"/>
          <p:cNvSpPr/>
          <p:nvPr/>
        </p:nvSpPr>
        <p:spPr>
          <a:xfrm>
            <a:off x="5508720" y="2997360"/>
            <a:ext cx="0" cy="100800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0"/>
          <p:cNvSpPr/>
          <p:nvPr/>
        </p:nvSpPr>
        <p:spPr>
          <a:xfrm>
            <a:off x="7020000" y="3068640"/>
            <a:ext cx="172872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zi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21"/>
          <p:cNvSpPr/>
          <p:nvPr/>
        </p:nvSpPr>
        <p:spPr>
          <a:xfrm>
            <a:off x="5003640" y="2060640"/>
            <a:ext cx="936720" cy="1224000"/>
          </a:xfrm>
          <a:prstGeom prst="ellipse">
            <a:avLst/>
          </a:prstGeom>
          <a:solidFill>
            <a:srgbClr val="bbe0e3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22"/>
          <p:cNvSpPr/>
          <p:nvPr/>
        </p:nvSpPr>
        <p:spPr>
          <a:xfrm>
            <a:off x="5292720" y="3645000"/>
            <a:ext cx="936720" cy="1224000"/>
          </a:xfrm>
          <a:prstGeom prst="ellipse">
            <a:avLst/>
          </a:prstGeom>
          <a:solidFill>
            <a:srgbClr val="bbe0e3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3"/>
          <p:cNvSpPr/>
          <p:nvPr/>
        </p:nvSpPr>
        <p:spPr>
          <a:xfrm>
            <a:off x="6300720" y="429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4"/>
          <p:cNvSpPr/>
          <p:nvPr/>
        </p:nvSpPr>
        <p:spPr>
          <a:xfrm>
            <a:off x="2340000" y="53737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angre: Forma libre o unida a prote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6"/>
          <p:cNvSpPr/>
          <p:nvPr/>
        </p:nvSpPr>
        <p:spPr>
          <a:xfrm>
            <a:off x="5796000" y="2637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BIOTINA O VITAMINA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Met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2" dur="indefinite" restart="never" nodeType="tmRoot">
          <p:childTnLst>
            <p:seq>
              <p:cTn id="1893" dur="indefinite" nodeType="mainSeq">
                <p:childTnLst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COA"/>
          <p:cNvPicPr/>
          <p:nvPr/>
        </p:nvPicPr>
        <p:blipFill>
          <a:blip r:embed="rId1"/>
          <a:stretch/>
        </p:blipFill>
        <p:spPr>
          <a:xfrm>
            <a:off x="539640" y="1341360"/>
            <a:ext cx="7580520" cy="265932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3"/>
          <p:cNvSpPr/>
          <p:nvPr/>
        </p:nvSpPr>
        <p:spPr>
          <a:xfrm>
            <a:off x="250920" y="3284640"/>
            <a:ext cx="41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oenzima A (CoA-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250920" y="4429080"/>
            <a:ext cx="8569080" cy="1982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ONSTITUYENTE  DE LA Coenzima 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tabolismo energ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ransferencia de grupos acet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íntesis de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1619280" y="1341360"/>
            <a:ext cx="2160720" cy="1224000"/>
          </a:xfrm>
          <a:prstGeom prst="rect">
            <a:avLst/>
          </a:prstGeom>
          <a:solidFill>
            <a:srgbClr val="bbe0e3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1403280" y="2637000"/>
            <a:ext cx="2335320" cy="580680"/>
          </a:xfrm>
          <a:prstGeom prst="rect">
            <a:avLst/>
          </a:prstGeom>
          <a:solidFill>
            <a:srgbClr val="d7f959"/>
          </a:solidFill>
          <a:ln w="9360">
            <a:solidFill>
              <a:srgbClr val="05e1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siduo de Ac. pantoté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611280" y="6021360"/>
            <a:ext cx="40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285840" y="0"/>
            <a:ext cx="864396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7030a0"/>
                </a:solidFill>
                <a:latin typeface="Arial"/>
              </a:rPr>
              <a:t>ACIDO PANTOTENICO O VIT B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258840" y="1214280"/>
            <a:ext cx="8670960" cy="3395880"/>
          </a:xfrm>
          <a:prstGeom prst="rect">
            <a:avLst/>
          </a:prstGeom>
          <a:ln w="0">
            <a:noFill/>
          </a:ln>
        </p:spPr>
      </p:pic>
      <p:sp>
        <p:nvSpPr>
          <p:cNvPr id="521" name="5 CuadroTexto"/>
          <p:cNvSpPr/>
          <p:nvPr/>
        </p:nvSpPr>
        <p:spPr>
          <a:xfrm>
            <a:off x="1666800" y="471492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7030a0"/>
                </a:solidFill>
                <a:latin typeface="Arial"/>
              </a:rPr>
              <a:t>Funciones metabólicas de l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enzi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8 Rectángulo"/>
          <p:cNvSpPr/>
          <p:nvPr/>
        </p:nvSpPr>
        <p:spPr>
          <a:xfrm>
            <a:off x="428760" y="2571840"/>
            <a:ext cx="1000080" cy="64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17"/>
          <p:cNvSpPr/>
          <p:nvPr/>
        </p:nvSpPr>
        <p:spPr>
          <a:xfrm>
            <a:off x="1116000" y="2060640"/>
            <a:ext cx="705636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Mayoría de los Alimen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&gt; Huevo, Hígado y Leva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8"/>
          <p:cNvSpPr/>
          <p:nvPr/>
        </p:nvSpPr>
        <p:spPr>
          <a:xfrm>
            <a:off x="611280" y="6021360"/>
            <a:ext cx="40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9"/>
          <p:cNvSpPr/>
          <p:nvPr/>
        </p:nvSpPr>
        <p:spPr>
          <a:xfrm>
            <a:off x="611280" y="4149720"/>
            <a:ext cx="7705800" cy="1323000"/>
          </a:xfrm>
          <a:prstGeom prst="rect">
            <a:avLst/>
          </a:prstGeom>
          <a:gradFill rotWithShape="0">
            <a:gsLst>
              <a:gs pos="0">
                <a:srgbClr val="706b02"/>
              </a:gs>
              <a:gs pos="50000">
                <a:srgbClr val="f3e805"/>
              </a:gs>
              <a:gs pos="100000">
                <a:srgbClr val="706b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querimiento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4-6 mg/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0"/>
          <p:cNvSpPr/>
          <p:nvPr/>
        </p:nvSpPr>
        <p:spPr>
          <a:xfrm>
            <a:off x="324000" y="5791320"/>
            <a:ext cx="8280360" cy="155628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Avitaminosis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: Atrofia del nervio óptico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214200" y="142920"/>
            <a:ext cx="8643960" cy="157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7030a0"/>
                </a:solidFill>
                <a:latin typeface="Arial"/>
              </a:rPr>
              <a:t>ACIDO PANTOTENICO O VIT B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7030a0"/>
                </a:solidFill>
                <a:latin typeface="Comic Sans MS"/>
              </a:rPr>
              <a:t>Fuentes – Necesidades di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8229600" cy="1000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COMPLEJO B</a:t>
            </a:r>
            <a:br>
              <a:rPr sz="24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CIDO FOLICO O VIT B9</a:t>
            </a:r>
            <a:br>
              <a:rPr sz="2400"/>
            </a:b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400" spc="-1" strike="noStrike">
                <a:solidFill>
                  <a:srgbClr val="7030a0"/>
                </a:solidFill>
                <a:latin typeface="Comic Sans MS"/>
              </a:rPr>
              <a:t>Fuentes – Necesidades diarias - Función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5" descr="Bc-acidofolic"/>
          <p:cNvPicPr/>
          <p:nvPr/>
        </p:nvPicPr>
        <p:blipFill>
          <a:blip r:embed="rId1"/>
          <a:stretch/>
        </p:blipFill>
        <p:spPr>
          <a:xfrm>
            <a:off x="0" y="1000080"/>
            <a:ext cx="1832040" cy="273528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71280" y="3786120"/>
            <a:ext cx="8893440" cy="2360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RMA PARTE DEL ÁCIDO TETRAHIDROFÓLICO, (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ENZIM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 REACCIONES DE TRANSFERENCIA DE RESTOS D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UN CARBO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2428920" y="1324080"/>
            <a:ext cx="3816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Fuentes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 de ob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Vegetales ve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ereales Integ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0" descr="http://tbn0.google.com/images?q=tbn:CcgQhy2MHcUoBM:http://www.granjasdeluruguay.com.uy/materiales/verduras-0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1798560"/>
            <a:ext cx="2556000" cy="155916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10"/>
          <p:cNvSpPr/>
          <p:nvPr/>
        </p:nvSpPr>
        <p:spPr>
          <a:xfrm>
            <a:off x="1085760" y="6165720"/>
            <a:ext cx="7272360" cy="5814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: 200 </a:t>
            </a:r>
            <a:r>
              <a:rPr b="0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g/d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500"/>
                            </p:stCondLst>
                            <p:childTnLst>
                              <p:par>
                                <p:cTn id="20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0" dur="8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1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496360" cy="5229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ducción de glóbulos rojos junto con la vitamina B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íntesis de ADN que controla los factores gen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ción del tubo neural del bebé en las primeras semanas de ges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la maduración de glóbulos ro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628560" y="214200"/>
            <a:ext cx="8229600" cy="1000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COMPLEJO B</a:t>
            </a:r>
            <a:br>
              <a:rPr sz="24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CIDO FOLICO</a:t>
            </a:r>
            <a:br>
              <a:rPr sz="24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7030a0"/>
                </a:solidFill>
                <a:latin typeface="Comic Sans MS"/>
              </a:rPr>
              <a:t>Función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1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6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1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6" dur="500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686800" cy="496728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ransportador de grupos Met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cesita unirse al factor extrínseco para poder absorberse en í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transporta unida a una proteína (Transcobalamina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Se almacena en híg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labora en el metabolismo energético: Degradación de Acidos Grasos de número impar de átomos de carb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428760" y="285840"/>
            <a:ext cx="8229600" cy="1000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COMPLEJO B</a:t>
            </a:r>
            <a:br>
              <a:rPr sz="2400"/>
            </a:br>
            <a:r>
              <a:rPr b="1" lang="es-AR" sz="3200" spc="-1" strike="noStrike">
                <a:solidFill>
                  <a:srgbClr val="ff6600"/>
                </a:solidFill>
                <a:latin typeface="Arial"/>
              </a:rPr>
              <a:t>VITAMINA B12 O COBALAMINA</a:t>
            </a:r>
            <a:br>
              <a:rPr sz="24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3200" spc="-1" strike="noStrike">
                <a:solidFill>
                  <a:srgbClr val="ff6600"/>
                </a:solidFill>
                <a:latin typeface="Comic Sans MS"/>
              </a:rPr>
              <a:t>Función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2176560" y="1095480"/>
            <a:ext cx="4790880" cy="4667040"/>
          </a:xfrm>
          <a:prstGeom prst="rect">
            <a:avLst/>
          </a:prstGeom>
          <a:ln w="0">
            <a:noFill/>
          </a:ln>
        </p:spPr>
      </p:pic>
      <p:sp>
        <p:nvSpPr>
          <p:cNvPr id="539" name="4 CuadroTexto"/>
          <p:cNvSpPr/>
          <p:nvPr/>
        </p:nvSpPr>
        <p:spPr>
          <a:xfrm>
            <a:off x="2732040" y="6000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Cianocobalamina ó Vit B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10"/>
          <p:cNvSpPr/>
          <p:nvPr/>
        </p:nvSpPr>
        <p:spPr>
          <a:xfrm>
            <a:off x="785880" y="2857680"/>
            <a:ext cx="7886520" cy="350604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FUNCIO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Coenzima de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versión de homocisteína a meti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xidación de ácidos grasos de n° impar de átomos d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857160" y="285840"/>
            <a:ext cx="7848720" cy="219924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ff6600"/>
                </a:solidFill>
                <a:uFillTx/>
                <a:latin typeface="Arial"/>
              </a:rPr>
              <a:t>Formas activa de la Vitamina B</a:t>
            </a:r>
            <a:r>
              <a:rPr b="1" lang="es-AR" sz="3200" spc="-1" strike="noStrike" u="sng" baseline="-25000">
                <a:solidFill>
                  <a:srgbClr val="ff6600"/>
                </a:solidFill>
                <a:uFillTx/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soxicobalamina (Coenzima B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AR" sz="3200" spc="-1" strike="noStrike">
                <a:solidFill>
                  <a:srgbClr val="0000ff"/>
                </a:solidFill>
                <a:latin typeface="Arial"/>
              </a:rPr>
              <a:t>(C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tilcobalamina </a:t>
            </a:r>
            <a:r>
              <a:rPr b="0" lang="es-AR" sz="3200" spc="-1" strike="noStrike">
                <a:solidFill>
                  <a:srgbClr val="0000ff"/>
                </a:solidFill>
                <a:latin typeface="Arial"/>
              </a:rPr>
              <a:t>(MeC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Line 22"/>
          <p:cNvSpPr/>
          <p:nvPr/>
        </p:nvSpPr>
        <p:spPr>
          <a:xfrm>
            <a:off x="2916360" y="2276640"/>
            <a:ext cx="71280" cy="2447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1332000" y="1916280"/>
            <a:ext cx="54007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2987640" y="1916280"/>
            <a:ext cx="2952720" cy="504720"/>
          </a:xfrm>
          <a:prstGeom prst="rect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METI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2484360" y="4869000"/>
            <a:ext cx="3559320" cy="865080"/>
          </a:xfrm>
          <a:prstGeom prst="rect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HOMOCISTE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6"/>
          <p:cNvSpPr/>
          <p:nvPr/>
        </p:nvSpPr>
        <p:spPr>
          <a:xfrm>
            <a:off x="3492360" y="2349360"/>
            <a:ext cx="922320" cy="73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3492360" y="2421000"/>
            <a:ext cx="10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"/>
                <a:ea typeface="SimSun"/>
              </a:rPr>
              <a:t>CH</a:t>
            </a:r>
            <a:r>
              <a:rPr b="1" lang="es-MX" sz="3200" spc="-1" strike="noStrike" baseline="-25000">
                <a:solidFill>
                  <a:srgbClr val="ff0000"/>
                </a:solidFill>
                <a:latin typeface="Arial"/>
                <a:ea typeface="SimSu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8"/>
          <p:cNvSpPr/>
          <p:nvPr/>
        </p:nvSpPr>
        <p:spPr>
          <a:xfrm rot="1593600">
            <a:off x="5364000" y="256536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c5c5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300720" y="2708280"/>
            <a:ext cx="2843280" cy="22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SimSun"/>
              </a:rPr>
              <a:t>SÍNTESIS DE COMPUESTOS DE IMPORTANCIA B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6600"/>
                </a:solidFill>
                <a:latin typeface="Arial"/>
              </a:rPr>
              <a:t>Acción de B12 sobre transporte </a:t>
            </a:r>
            <a:br>
              <a:rPr sz="3200"/>
            </a:br>
            <a:r>
              <a:rPr b="0" lang="es-AR" sz="3200" spc="-1" strike="noStrike">
                <a:solidFill>
                  <a:srgbClr val="ff6600"/>
                </a:solidFill>
                <a:latin typeface="Arial"/>
              </a:rPr>
              <a:t>de grupos met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3"/>
          <p:cNvSpPr/>
          <p:nvPr/>
        </p:nvSpPr>
        <p:spPr>
          <a:xfrm>
            <a:off x="2916360" y="2233440"/>
            <a:ext cx="0" cy="1154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AutoShape 14"/>
          <p:cNvCxnSpPr>
            <a:stCxn id="545" idx="1"/>
            <a:endCxn id="544" idx="1"/>
          </p:cNvCxnSpPr>
          <p:nvPr/>
        </p:nvCxnSpPr>
        <p:spPr>
          <a:xfrm flipH="1" rot="10800000">
            <a:off x="2484000" y="2167920"/>
            <a:ext cx="504000" cy="3134160"/>
          </a:xfrm>
          <a:prstGeom prst="bentConnector3">
            <a:avLst>
              <a:gd name="adj1" fmla="val -45389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3" name="Line 15"/>
          <p:cNvSpPr/>
          <p:nvPr/>
        </p:nvSpPr>
        <p:spPr>
          <a:xfrm>
            <a:off x="2916360" y="2637000"/>
            <a:ext cx="647640" cy="7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8"/>
          <p:cNvSpPr/>
          <p:nvPr/>
        </p:nvSpPr>
        <p:spPr>
          <a:xfrm>
            <a:off x="250920" y="3213000"/>
            <a:ext cx="1865160" cy="6487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til-FH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9"/>
          <p:cNvSpPr/>
          <p:nvPr/>
        </p:nvSpPr>
        <p:spPr>
          <a:xfrm>
            <a:off x="900000" y="2205000"/>
            <a:ext cx="1081080" cy="6487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20"/>
          <p:cNvSpPr/>
          <p:nvPr/>
        </p:nvSpPr>
        <p:spPr>
          <a:xfrm rot="16200000">
            <a:off x="1726920" y="2744280"/>
            <a:ext cx="792360" cy="287280"/>
          </a:xfrm>
          <a:custGeom>
            <a:avLst/>
            <a:gdLst>
              <a:gd name="textAreaLeft" fmla="*/ 138600 w 792360"/>
              <a:gd name="textAreaRight" fmla="*/ 574560 w 792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1"/>
          <p:cNvSpPr/>
          <p:nvPr/>
        </p:nvSpPr>
        <p:spPr>
          <a:xfrm>
            <a:off x="2195640" y="2421000"/>
            <a:ext cx="1081080" cy="936720"/>
          </a:xfrm>
          <a:prstGeom prst="ellipse">
            <a:avLst/>
          </a:prstGeom>
          <a:solidFill>
            <a:srgbClr val="f3e80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2340000" y="2637000"/>
            <a:ext cx="807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23"/>
          <p:cNvSpPr/>
          <p:nvPr/>
        </p:nvSpPr>
        <p:spPr>
          <a:xfrm rot="1857000">
            <a:off x="4427280" y="3141720"/>
            <a:ext cx="1728720" cy="503280"/>
          </a:xfrm>
          <a:prstGeom prst="rightArrow">
            <a:avLst>
              <a:gd name="adj1" fmla="val 50000"/>
              <a:gd name="adj2" fmla="val 85873"/>
            </a:avLst>
          </a:prstGeom>
          <a:solidFill>
            <a:srgbClr val="c5c5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428760" y="214200"/>
            <a:ext cx="824868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00000"/>
                </a:solidFill>
                <a:uFillTx/>
                <a:latin typeface="Arial"/>
              </a:rPr>
              <a:t>VITAMINAS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Son aportadas como tal por la 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2060"/>
                </a:solidFill>
                <a:uFillTx/>
                <a:latin typeface="Arial"/>
              </a:rPr>
              <a:t>PROVITAMINAS</a:t>
            </a:r>
            <a:r>
              <a:rPr b="1" lang="es-ES" sz="28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0" lang="es-ES" sz="2800" spc="-1" strike="noStrike">
                <a:solidFill>
                  <a:srgbClr val="002060"/>
                </a:solidFill>
                <a:latin typeface="Arial"/>
              </a:rPr>
              <a:t>Precursores sin actividad vitamínica, su metabolismo da origen a la </a:t>
            </a:r>
            <a:r>
              <a:rPr b="0" i="1" lang="es-ES" sz="2800" spc="-1" strike="noStrike">
                <a:solidFill>
                  <a:srgbClr val="002060"/>
                </a:solidFill>
                <a:latin typeface="Arial"/>
              </a:rPr>
              <a:t>vitamina a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8000"/>
                </a:solidFill>
                <a:uFillTx/>
                <a:latin typeface="Arial"/>
              </a:rPr>
              <a:t>ANTIVITAMINAS:</a:t>
            </a:r>
            <a:r>
              <a:rPr b="1" lang="es-E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Con estructura química semejante a alguna vitamina</a:t>
            </a:r>
            <a:r>
              <a:rPr b="1" lang="es-ES" sz="28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 compiten con ellas en los sistemas enzimátic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y bloquean su acción. No tienen actividad vitamínica.                             Se usan como fár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3" descr="HIGADO"/>
          <p:cNvPicPr/>
          <p:nvPr/>
        </p:nvPicPr>
        <p:blipFill>
          <a:blip r:embed="rId1"/>
          <a:srcRect l="0" t="25110" r="6056" b="2760"/>
          <a:stretch/>
        </p:blipFill>
        <p:spPr>
          <a:xfrm>
            <a:off x="3419640" y="2924280"/>
            <a:ext cx="3241440" cy="186192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8"/>
          <p:cNvGrpSpPr/>
          <p:nvPr/>
        </p:nvGrpSpPr>
        <p:grpSpPr>
          <a:xfrm>
            <a:off x="539640" y="3714840"/>
            <a:ext cx="1344600" cy="1871640"/>
            <a:chOff x="539640" y="3714840"/>
            <a:chExt cx="1344600" cy="1871640"/>
          </a:xfrm>
        </p:grpSpPr>
        <p:sp>
          <p:nvSpPr>
            <p:cNvPr id="562" name="Freeform 9"/>
            <p:cNvSpPr/>
            <p:nvPr/>
          </p:nvSpPr>
          <p:spPr>
            <a:xfrm>
              <a:off x="539640" y="371484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0"/>
            <p:cNvSpPr/>
            <p:nvPr/>
          </p:nvSpPr>
          <p:spPr>
            <a:xfrm>
              <a:off x="803160" y="372276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Oval 12"/>
          <p:cNvSpPr/>
          <p:nvPr/>
        </p:nvSpPr>
        <p:spPr>
          <a:xfrm>
            <a:off x="2700360" y="1131840"/>
            <a:ext cx="2663640" cy="144000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BA-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-C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8"/>
          <p:cNvSpPr/>
          <p:nvPr/>
        </p:nvSpPr>
        <p:spPr>
          <a:xfrm>
            <a:off x="6877080" y="3213000"/>
            <a:ext cx="2016000" cy="151308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L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4" descr="ANd9GcS9XpcOfEIXphk44UC2swYYNpCKp2IInQjmjBJ70f63kP-jXW1P"/>
          <p:cNvPicPr/>
          <p:nvPr/>
        </p:nvPicPr>
        <p:blipFill>
          <a:blip r:embed="rId2"/>
          <a:stretch/>
        </p:blipFill>
        <p:spPr>
          <a:xfrm>
            <a:off x="468360" y="1484280"/>
            <a:ext cx="2095560" cy="218124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25"/>
          <p:cNvSpPr/>
          <p:nvPr/>
        </p:nvSpPr>
        <p:spPr>
          <a:xfrm>
            <a:off x="395280" y="2492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ptocor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6"/>
          <p:cNvSpPr/>
          <p:nvPr/>
        </p:nvSpPr>
        <p:spPr>
          <a:xfrm rot="20133000">
            <a:off x="1332000" y="3933360"/>
            <a:ext cx="158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e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3"/>
          <p:cNvSpPr/>
          <p:nvPr/>
        </p:nvSpPr>
        <p:spPr>
          <a:xfrm flipH="1">
            <a:off x="1619280" y="2997360"/>
            <a:ext cx="216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27"/>
          <p:cNvSpPr/>
          <p:nvPr/>
        </p:nvSpPr>
        <p:spPr>
          <a:xfrm>
            <a:off x="395280" y="4149720"/>
            <a:ext cx="720720" cy="79200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28"/>
          <p:cNvSpPr/>
          <p:nvPr/>
        </p:nvSpPr>
        <p:spPr>
          <a:xfrm>
            <a:off x="0" y="3573360"/>
            <a:ext cx="971640" cy="792360"/>
          </a:xfrm>
          <a:prstGeom prst="ellipse">
            <a:avLst/>
          </a:prstGeom>
          <a:solidFill>
            <a:srgbClr val="f3e8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9"/>
          <p:cNvSpPr/>
          <p:nvPr/>
        </p:nvSpPr>
        <p:spPr>
          <a:xfrm rot="19635600">
            <a:off x="33480" y="564624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0"/>
          <p:cNvSpPr/>
          <p:nvPr/>
        </p:nvSpPr>
        <p:spPr>
          <a:xfrm>
            <a:off x="1979640" y="5013360"/>
            <a:ext cx="72072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1763640" y="5877000"/>
            <a:ext cx="14414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TC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2"/>
          <p:cNvSpPr/>
          <p:nvPr/>
        </p:nvSpPr>
        <p:spPr>
          <a:xfrm>
            <a:off x="3203640" y="4149720"/>
            <a:ext cx="1776240" cy="1871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33"/>
          <p:cNvSpPr/>
          <p:nvPr/>
        </p:nvSpPr>
        <p:spPr>
          <a:xfrm>
            <a:off x="4716360" y="4653000"/>
            <a:ext cx="2880000" cy="1392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5"/>
          <p:cNvSpPr/>
          <p:nvPr/>
        </p:nvSpPr>
        <p:spPr>
          <a:xfrm>
            <a:off x="5940360" y="1981080"/>
            <a:ext cx="1944720" cy="52056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6"/>
          <p:cNvSpPr/>
          <p:nvPr/>
        </p:nvSpPr>
        <p:spPr>
          <a:xfrm>
            <a:off x="5796000" y="1266840"/>
            <a:ext cx="2952720" cy="52056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7"/>
          <p:cNvSpPr/>
          <p:nvPr/>
        </p:nvSpPr>
        <p:spPr>
          <a:xfrm>
            <a:off x="586728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8"/>
          <p:cNvSpPr/>
          <p:nvPr/>
        </p:nvSpPr>
        <p:spPr>
          <a:xfrm flipH="1">
            <a:off x="4788000" y="1643040"/>
            <a:ext cx="1079280" cy="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9"/>
          <p:cNvSpPr/>
          <p:nvPr/>
        </p:nvSpPr>
        <p:spPr>
          <a:xfrm flipH="1">
            <a:off x="4716360" y="2143080"/>
            <a:ext cx="1224000" cy="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0"/>
          <p:cNvSpPr/>
          <p:nvPr/>
        </p:nvSpPr>
        <p:spPr>
          <a:xfrm>
            <a:off x="3780000" y="33577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3924360" y="5229360"/>
            <a:ext cx="25207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EP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485640" y="214200"/>
            <a:ext cx="8229600" cy="1000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COMPLEJO B</a:t>
            </a:r>
            <a:br>
              <a:rPr sz="2400"/>
            </a:b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VITAMINA B12 O COBALA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6600"/>
                </a:solidFill>
                <a:latin typeface="Comic Sans MS"/>
              </a:rPr>
              <a:t>Metabolismo</a:t>
            </a:r>
            <a:br>
              <a:rPr sz="24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18"/>
          <p:cNvSpPr/>
          <p:nvPr/>
        </p:nvSpPr>
        <p:spPr>
          <a:xfrm>
            <a:off x="857160" y="4071960"/>
            <a:ext cx="7705800" cy="2466720"/>
          </a:xfrm>
          <a:prstGeom prst="rect">
            <a:avLst/>
          </a:prstGeom>
          <a:gradFill rotWithShape="0">
            <a:gsLst>
              <a:gs pos="0">
                <a:srgbClr val="6c744b"/>
              </a:gs>
              <a:gs pos="100000">
                <a:srgbClr val="eafb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AVITAMINO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cumulación de AG de cadena im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éficit de ácido fó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nemia pernici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1143000" y="1428840"/>
            <a:ext cx="6624720" cy="246672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dultos: 0,9-1,0 </a:t>
            </a:r>
            <a:r>
              <a:rPr b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ncianos: 2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mbarazadas 2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3 Rectángulo"/>
          <p:cNvSpPr/>
          <p:nvPr/>
        </p:nvSpPr>
        <p:spPr>
          <a:xfrm>
            <a:off x="2669040" y="92880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ff6600"/>
                </a:solidFill>
                <a:latin typeface="Comic Sans MS"/>
              </a:rPr>
              <a:t>Necesidades diar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357120" y="214200"/>
            <a:ext cx="8229600" cy="714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COMPLEJO B</a:t>
            </a:r>
            <a:br>
              <a:rPr sz="2400"/>
            </a:br>
            <a:r>
              <a:rPr b="1" lang="es-AR" sz="2400" spc="-1" strike="noStrike">
                <a:solidFill>
                  <a:srgbClr val="ff6600"/>
                </a:solidFill>
                <a:latin typeface="Arial"/>
              </a:rPr>
              <a:t>VITAMINA B12 O COBALAMINA</a:t>
            </a:r>
            <a:br>
              <a:rPr sz="24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7" dur="indefinite" restart="never" nodeType="tmRoot">
          <p:childTnLst>
            <p:seq>
              <p:cTn id="2078" dur="indefinite" nodeType="mainSeq">
                <p:childTnLst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3" dur="8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4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7" descr="b6"/>
          <p:cNvPicPr/>
          <p:nvPr/>
        </p:nvPicPr>
        <p:blipFill>
          <a:blip r:embed="rId1"/>
          <a:stretch/>
        </p:blipFill>
        <p:spPr>
          <a:xfrm>
            <a:off x="324000" y="1708200"/>
            <a:ext cx="2881080" cy="179208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8"/>
          <p:cNvSpPr/>
          <p:nvPr/>
        </p:nvSpPr>
        <p:spPr>
          <a:xfrm>
            <a:off x="543600" y="3768840"/>
            <a:ext cx="2076480" cy="94716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osfat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iridox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2"/>
          <p:cNvSpPr/>
          <p:nvPr/>
        </p:nvSpPr>
        <p:spPr>
          <a:xfrm>
            <a:off x="144360" y="5157720"/>
            <a:ext cx="8964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NCION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ES UNA COENZIMA DE ENZIMAS QUE INTERVIENEN EN EL METABOLISMO DE  LOS AMINOÁCIDOS (TRANSAMIN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4"/>
          <p:cNvSpPr/>
          <p:nvPr/>
        </p:nvSpPr>
        <p:spPr>
          <a:xfrm>
            <a:off x="3419640" y="1701720"/>
            <a:ext cx="4608360" cy="311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Fuentes de ob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ereales integ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ar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es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5" descr="trigo"/>
          <p:cNvPicPr/>
          <p:nvPr/>
        </p:nvPicPr>
        <p:blipFill>
          <a:blip r:embed="rId2"/>
          <a:stretch/>
        </p:blipFill>
        <p:spPr>
          <a:xfrm>
            <a:off x="6985080" y="249228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"/>
              </a:rPr>
              <a:t>PIRIDOXINA O VITAMINA B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Comic Sans MS"/>
              </a:rPr>
              <a:t>Fuentes – Fu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4" dur="indefinite" restart="never" nodeType="tmRoot">
          <p:childTnLst>
            <p:seq>
              <p:cTn id="2095" dur="indefinite" nodeType="mainSeq">
                <p:childTnLst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2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3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5"/>
          <p:cNvSpPr/>
          <p:nvPr/>
        </p:nvSpPr>
        <p:spPr>
          <a:xfrm>
            <a:off x="501480" y="928800"/>
            <a:ext cx="8642520" cy="3115440"/>
          </a:xfrm>
          <a:prstGeom prst="rect">
            <a:avLst/>
          </a:prstGeom>
          <a:solidFill>
            <a:srgbClr val="ffa8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 nutriciona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: 20 </a:t>
            </a:r>
            <a:r>
              <a:rPr b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/g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dultos 1,1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&gt;50 años 1,5-1,7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jeres embarazas y en lactancia 1,9-2,0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iños 0,5-0,6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468360" y="5877000"/>
            <a:ext cx="4895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Avitaminosi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: Muy ra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357120" y="4643280"/>
            <a:ext cx="3672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Hipervitaminosis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Tóx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2214720" y="4071960"/>
            <a:ext cx="4537080" cy="52056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ivel máximo: 100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"/>
          <p:cNvSpPr/>
          <p:nvPr/>
        </p:nvSpPr>
        <p:spPr>
          <a:xfrm>
            <a:off x="4143240" y="5357880"/>
            <a:ext cx="144144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5572080" y="5000760"/>
            <a:ext cx="324000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europat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"/>
              </a:rPr>
              <a:t>PIRIDOXINA O VITAMINA B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Comic Sans MS"/>
              </a:rPr>
              <a:t>Necesidade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8" dur="indefinite" restart="never" nodeType="tmRoot">
          <p:childTnLst>
            <p:seq>
              <p:cTn id="2129" dur="indefinite" nodeType="mainSeq">
                <p:childTnLst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500"/>
                            </p:stCondLst>
                            <p:childTnLst>
                              <p:par>
                                <p:cTn id="2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3" descr="acido ascorbico"/>
          <p:cNvPicPr/>
          <p:nvPr/>
        </p:nvPicPr>
        <p:blipFill>
          <a:blip r:embed="rId1"/>
          <a:srcRect l="0" t="42828" r="73987" b="3673"/>
          <a:stretch/>
        </p:blipFill>
        <p:spPr>
          <a:xfrm>
            <a:off x="684360" y="1989000"/>
            <a:ext cx="1873080" cy="251964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4"/>
          <p:cNvSpPr/>
          <p:nvPr/>
        </p:nvSpPr>
        <p:spPr>
          <a:xfrm>
            <a:off x="395280" y="4653000"/>
            <a:ext cx="24480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cido Ascórb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3635280" y="1557360"/>
            <a:ext cx="446580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Fuentes de ob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ros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miento 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Ki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lif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l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8" descr="hortalizas lindas"/>
          <p:cNvPicPr/>
          <p:nvPr/>
        </p:nvPicPr>
        <p:blipFill>
          <a:blip r:embed="rId2"/>
          <a:stretch/>
        </p:blipFill>
        <p:spPr>
          <a:xfrm>
            <a:off x="5508720" y="32846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70c0"/>
                </a:solidFill>
                <a:latin typeface="Arial"/>
              </a:rPr>
              <a:t>ACIDO ASCÓRBICO O VITAMINA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omic Sans MS"/>
              </a:rPr>
              <a:t>F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6" dur="indefinite" restart="never" nodeType="tmRoot">
          <p:childTnLst>
            <p:seq>
              <p:cTn id="2157" dur="indefinite" nodeType="mainSeq">
                <p:childTnLst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500"/>
                            </p:stCondLst>
                            <p:childTnLst>
                              <p:par>
                                <p:cTn id="2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factor de Varias Enzimas de hidrox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empeña un papel fundamental en la cicatrización de heridas por su participación en la síntesis de coláge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ó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tioxidante y además protege a otros antioxidantes (Vit A y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gente Reductor: Reducción de Fe para su absorción intestinal.(Fe+++ a Fe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"/>
          <p:cNvSpPr/>
          <p:nvPr/>
        </p:nvSpPr>
        <p:spPr>
          <a:xfrm>
            <a:off x="2858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70c0"/>
                </a:solidFill>
                <a:latin typeface="Arial"/>
              </a:rPr>
              <a:t>ACIDO ASCÓRBICO O VITAMINA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omic Sans MS"/>
              </a:rPr>
              <a:t>Fu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9" dur="indefinite" restart="never" nodeType="tmRoot">
          <p:childTnLst>
            <p:seq>
              <p:cTn id="2180" dur="indefinite" nodeType="mainSeq">
                <p:childTnLst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0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5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0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5" dur="5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6"/>
          <p:cNvSpPr/>
          <p:nvPr/>
        </p:nvSpPr>
        <p:spPr>
          <a:xfrm>
            <a:off x="500040" y="1714680"/>
            <a:ext cx="8137440" cy="1818000"/>
          </a:xfrm>
          <a:prstGeom prst="rect">
            <a:avLst/>
          </a:prstGeom>
          <a:solidFill>
            <a:srgbClr val="fcf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 diario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60 mg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mbarazadas 80 y en lactancia 1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642960" y="3786120"/>
            <a:ext cx="3600360" cy="581400"/>
          </a:xfrm>
          <a:prstGeom prst="rect">
            <a:avLst/>
          </a:prstGeom>
          <a:gradFill rotWithShape="0">
            <a:gsLst>
              <a:gs pos="0">
                <a:srgbClr val="6c7106"/>
              </a:gs>
              <a:gs pos="50000">
                <a:srgbClr val="e9f40e"/>
              </a:gs>
              <a:gs pos="100000">
                <a:srgbClr val="6c7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VITAMI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9"/>
          <p:cNvSpPr/>
          <p:nvPr/>
        </p:nvSpPr>
        <p:spPr>
          <a:xfrm>
            <a:off x="4286160" y="4071960"/>
            <a:ext cx="17287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6000840" y="3778200"/>
            <a:ext cx="3024000" cy="58140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SCOR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5689440" y="4933800"/>
            <a:ext cx="3383280" cy="155628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álculos renales                       Diar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214200" y="5072040"/>
            <a:ext cx="4211640" cy="581400"/>
          </a:xfrm>
          <a:prstGeom prst="rect">
            <a:avLst/>
          </a:prstGeom>
          <a:gradFill rotWithShape="0">
            <a:gsLst>
              <a:gs pos="0">
                <a:srgbClr val="6e401e"/>
              </a:gs>
              <a:gs pos="50000">
                <a:srgbClr val="ed8b41"/>
              </a:gs>
              <a:gs pos="100000">
                <a:srgbClr val="6e401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PERVITAMI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3"/>
          <p:cNvSpPr/>
          <p:nvPr/>
        </p:nvSpPr>
        <p:spPr>
          <a:xfrm>
            <a:off x="4572000" y="5286240"/>
            <a:ext cx="1152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4"/>
          <p:cNvSpPr/>
          <p:nvPr/>
        </p:nvSpPr>
        <p:spPr>
          <a:xfrm>
            <a:off x="1714680" y="5715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&gt;2000 mg/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2858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70c0"/>
                </a:solidFill>
                <a:latin typeface="Arial"/>
              </a:rPr>
              <a:t>ACIDO ASCÓRBICO O VITAMINA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omic Sans MS"/>
              </a:rPr>
              <a:t>Necesidade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50716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e encuentran en alimentos de origen Vegetal y Animal a excepción de la </a:t>
            </a: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B12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que solo en estos últi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on solubles en agua por lo que se absorben y se </a:t>
            </a: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transportan unidos a proteína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o se almacenan en los tejidos por mucho tiempo a excepción de la Vitamina B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e excretan por orina ó h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mayoría está formando parte de </a:t>
            </a: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Coenzima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que actúan en el metabolismo energ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714240" y="0"/>
            <a:ext cx="7772400" cy="1000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62626"/>
                </a:solidFill>
                <a:latin typeface="Arial"/>
                <a:ea typeface="Arial"/>
              </a:rPr>
              <a:t>RESUMEN DE LAS VITAMINAS HIDROSOLUBLES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8" dur="indefinite" restart="never" nodeType="tmRoot">
          <p:childTnLst>
            <p:seq>
              <p:cTn id="2249" dur="indefinite" nodeType="mainSeq">
                <p:childTnLst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9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4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9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4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9" dur="500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64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VITAMI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443280" y="5805360"/>
            <a:ext cx="2303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BAL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250920" y="2205000"/>
            <a:ext cx="4392360" cy="105984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SCORB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Cambios patológicos y tendencia a hemorragias en dientes y enc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179280" y="836640"/>
            <a:ext cx="5183280" cy="120276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AQUI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Deficiencias en el crecimiento del h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Piernas arqueadas y articulaciones ensanch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108000" y="3376440"/>
            <a:ext cx="4392720" cy="91692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ERI BERI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Deterioro del sistema nervioso y circulatorio, ed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108000" y="4545000"/>
            <a:ext cx="4392720" cy="97416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ELA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Hinchazón lengua, dermatitis, trastornos neurológicos y gastrointestinal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179280" y="5734080"/>
            <a:ext cx="4392720" cy="97416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NEMIA MEGALOBLA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Eritrocitos grandes, anómalos e inmad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6804000" y="119700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VITAMINA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4"/>
          <p:cNvSpPr/>
          <p:nvPr/>
        </p:nvSpPr>
        <p:spPr>
          <a:xfrm>
            <a:off x="5651640" y="1268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5"/>
          <p:cNvSpPr/>
          <p:nvPr/>
        </p:nvSpPr>
        <p:spPr>
          <a:xfrm flipH="1">
            <a:off x="5940360" y="981000"/>
            <a:ext cx="216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6"/>
          <p:cNvSpPr/>
          <p:nvPr/>
        </p:nvSpPr>
        <p:spPr>
          <a:xfrm>
            <a:off x="6732720" y="3645000"/>
            <a:ext cx="194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IAMINA (B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7"/>
          <p:cNvSpPr/>
          <p:nvPr/>
        </p:nvSpPr>
        <p:spPr>
          <a:xfrm>
            <a:off x="6804000" y="2421000"/>
            <a:ext cx="194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VITAMIN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8"/>
          <p:cNvSpPr/>
          <p:nvPr/>
        </p:nvSpPr>
        <p:spPr>
          <a:xfrm>
            <a:off x="6588000" y="4869000"/>
            <a:ext cx="194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IACINA (B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9"/>
          <p:cNvSpPr/>
          <p:nvPr/>
        </p:nvSpPr>
        <p:spPr>
          <a:xfrm>
            <a:off x="5435640" y="6165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0"/>
          <p:cNvSpPr/>
          <p:nvPr/>
        </p:nvSpPr>
        <p:spPr>
          <a:xfrm flipH="1">
            <a:off x="5724360" y="5877000"/>
            <a:ext cx="216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21"/>
          <p:cNvSpPr/>
          <p:nvPr/>
        </p:nvSpPr>
        <p:spPr>
          <a:xfrm>
            <a:off x="5508720" y="51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2"/>
          <p:cNvSpPr/>
          <p:nvPr/>
        </p:nvSpPr>
        <p:spPr>
          <a:xfrm flipH="1">
            <a:off x="5796000" y="4869000"/>
            <a:ext cx="216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3"/>
          <p:cNvSpPr/>
          <p:nvPr/>
        </p:nvSpPr>
        <p:spPr>
          <a:xfrm>
            <a:off x="5364000" y="3789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4"/>
          <p:cNvSpPr/>
          <p:nvPr/>
        </p:nvSpPr>
        <p:spPr>
          <a:xfrm flipH="1">
            <a:off x="5651280" y="3500280"/>
            <a:ext cx="21564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5"/>
          <p:cNvSpPr/>
          <p:nvPr/>
        </p:nvSpPr>
        <p:spPr>
          <a:xfrm>
            <a:off x="5508720" y="2708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6"/>
          <p:cNvSpPr/>
          <p:nvPr/>
        </p:nvSpPr>
        <p:spPr>
          <a:xfrm flipH="1">
            <a:off x="5797440" y="2421000"/>
            <a:ext cx="216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4" descr="http://tbn2.google.com/images?q=tbn:NKAWpMOAKhfKkM:http://static.consumer.es/verduras/imgs/fotografias/1conozcamos/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3857760"/>
            <a:ext cx="1714680" cy="21952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" descr="http://tbn3.google.com/images?q=tbn:U-crGy6oi5nczM:http://www.alimentacion-sana.com.ar/Portal%2520nuevo/imagenesplanillas/originales2/sesa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4076640"/>
            <a:ext cx="1857600" cy="17431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8" descr="http://tbn0.google.com/images?q=tbn:faG42C0LHvf3hM:http://usuarios3.arsystel.com/alesales/making-plastic-using-vitamin-c_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840" y="3929040"/>
            <a:ext cx="2214360" cy="2313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0" descr="http://tbn0.google.com/images?q=tbn:CcgQhy2MHcUoBM:http://www.granjasdeluruguay.com.uy/materiales/verduras-00.jpg"/>
          <p:cNvPicPr/>
          <p:nvPr/>
        </p:nvPicPr>
        <p:blipFill>
          <a:blip r:embed="rId7"/>
          <a:stretch/>
        </p:blipFill>
        <p:spPr>
          <a:xfrm>
            <a:off x="5940360" y="1484280"/>
            <a:ext cx="2693880" cy="1643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http://tbn0.google.com/images?q=tbn:I4KwKBNfdBz16M:http://www.mygomera.de/fotos/04-09-17_fischer/pescados_800.jpg"/>
          <p:cNvPicPr/>
          <p:nvPr/>
        </p:nvPicPr>
        <p:blipFill>
          <a:blip r:embed="rId8"/>
          <a:stretch/>
        </p:blipFill>
        <p:spPr>
          <a:xfrm>
            <a:off x="3571920" y="1500120"/>
            <a:ext cx="1839960" cy="1376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4" descr="http://tbn2.google.com/images?q=tbn:bHH-147IeshnpM:http://bp2.blogger.com/_EVfrzn4abyg/SIPwI-QeI5I/AAAAAAAAABE/iRWTloSv40U/s400/69.jpg"/>
          <p:cNvPicPr/>
          <p:nvPr/>
        </p:nvPicPr>
        <p:blipFill>
          <a:blip r:embed="rId9"/>
          <a:stretch/>
        </p:blipFill>
        <p:spPr>
          <a:xfrm>
            <a:off x="2643120" y="4214880"/>
            <a:ext cx="1676520" cy="12571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8" descr="carne sana"/>
          <p:cNvPicPr/>
          <p:nvPr/>
        </p:nvPicPr>
        <p:blipFill>
          <a:blip r:embed="rId10"/>
          <a:stretch/>
        </p:blipFill>
        <p:spPr>
          <a:xfrm>
            <a:off x="539640" y="1413000"/>
            <a:ext cx="2592360" cy="195408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9"/>
          <p:cNvSpPr/>
          <p:nvPr/>
        </p:nvSpPr>
        <p:spPr>
          <a:xfrm>
            <a:off x="0" y="333360"/>
            <a:ext cx="8820000" cy="9471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ALIMENTOS SANOS Y VARIADOS FAVORECEN UN ESTADO DE BUENA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9 CuadroTexto"/>
          <p:cNvSpPr/>
          <p:nvPr/>
        </p:nvSpPr>
        <p:spPr>
          <a:xfrm>
            <a:off x="1714680" y="5857920"/>
            <a:ext cx="668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Suplementos vitamínicos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sólo aportarse en c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uy justific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00040" y="71280"/>
            <a:ext cx="8229600" cy="678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Arial"/>
              </a:rPr>
              <a:t>AVITAMI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70c0"/>
                </a:solidFill>
                <a:latin typeface="Arial"/>
              </a:rPr>
              <a:t>Cuadro patológico por carencia de una o más vita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Arial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Mala alimentación </a:t>
            </a:r>
            <a:r>
              <a:rPr b="1" lang="es-AR" sz="2000" spc="-1" strike="noStrike">
                <a:solidFill>
                  <a:srgbClr val="ff6600"/>
                </a:solidFill>
                <a:latin typeface="Arial"/>
              </a:rPr>
              <a:t>(pocos alimentos frescos/vari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Absorción intestinal deficiente </a:t>
            </a:r>
            <a:r>
              <a:rPr b="1" lang="es-AR" sz="2000" spc="-1" strike="noStrike">
                <a:solidFill>
                  <a:srgbClr val="ff6600"/>
                </a:solidFill>
                <a:latin typeface="Arial"/>
              </a:rPr>
              <a:t>(celiaquía, escases de bil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Alto consumo alimentos que perdieron las vitaminas durante su manipulación ó conservación </a:t>
            </a:r>
            <a:r>
              <a:rPr b="1" lang="es-AR" sz="2000" spc="-1" strike="noStrike">
                <a:solidFill>
                  <a:srgbClr val="ff6600"/>
                </a:solidFill>
                <a:latin typeface="Arial"/>
              </a:rPr>
              <a:t>(conserv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Aumento de los requirimientos vitamínicos </a:t>
            </a:r>
            <a:r>
              <a:rPr b="1" lang="es-AR" sz="2000" spc="-1" strike="noStrike">
                <a:solidFill>
                  <a:srgbClr val="ff6600"/>
                </a:solidFill>
                <a:latin typeface="Arial"/>
              </a:rPr>
              <a:t>(embarazo, lactancia, creci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Excesos desequilibrados de la 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utrición”-Texto y Atlas –Autores: Biesalski.Grimm-  Ed. Panamericana-Año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Química Biológica”- Autor: Antonio Blanco- Editorial El Ateneo-Reimpresión 8° edic.-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o Esencial en metabolismo y Nutrición”-Cursos Crash de Mosby- Autor: Sarah Benyon-Ed. Harcourt Brace- 1°Ed.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ECESIDADES VITAMI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dad, sexo, peso, t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do fisiológico (embarazo y lacta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sonas hospitalizadas por largo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tamientos prolongados con antibió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pués de un traumatismo, quemadura, transpl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87280" y="5445000"/>
            <a:ext cx="853272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00"/>
                </a:solidFill>
                <a:latin typeface="Arial"/>
              </a:rPr>
              <a:t>Una alimentación variada permite que estén disponibles en cantidad suficiente sin necesidad de tomar complejos vitamínicos ex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verduras"/>
          <p:cNvPicPr/>
          <p:nvPr/>
        </p:nvPicPr>
        <p:blipFill>
          <a:blip r:embed="rId1"/>
          <a:stretch/>
        </p:blipFill>
        <p:spPr>
          <a:xfrm>
            <a:off x="3924360" y="2997360"/>
            <a:ext cx="1238040" cy="933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carne vaca"/>
          <p:cNvPicPr/>
          <p:nvPr/>
        </p:nvPicPr>
        <p:blipFill>
          <a:blip r:embed="rId2"/>
          <a:stretch/>
        </p:blipFill>
        <p:spPr>
          <a:xfrm>
            <a:off x="6012000" y="3357720"/>
            <a:ext cx="1180800" cy="790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pescado"/>
          <p:cNvPicPr/>
          <p:nvPr/>
        </p:nvPicPr>
        <p:blipFill>
          <a:blip r:embed="rId3"/>
          <a:stretch/>
        </p:blipFill>
        <p:spPr>
          <a:xfrm>
            <a:off x="2340000" y="3679920"/>
            <a:ext cx="923760" cy="1162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images"/>
          <p:cNvPicPr/>
          <p:nvPr/>
        </p:nvPicPr>
        <p:blipFill>
          <a:blip r:embed="rId4"/>
          <a:stretch/>
        </p:blipFill>
        <p:spPr>
          <a:xfrm>
            <a:off x="971640" y="195120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aceite"/>
          <p:cNvPicPr/>
          <p:nvPr/>
        </p:nvPicPr>
        <p:blipFill>
          <a:blip r:embed="rId5"/>
          <a:stretch/>
        </p:blipFill>
        <p:spPr>
          <a:xfrm>
            <a:off x="5219640" y="1773360"/>
            <a:ext cx="905040" cy="1104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nueces"/>
          <p:cNvPicPr/>
          <p:nvPr/>
        </p:nvPicPr>
        <p:blipFill>
          <a:blip r:embed="rId6"/>
          <a:stretch/>
        </p:blipFill>
        <p:spPr>
          <a:xfrm>
            <a:off x="5292720" y="4149720"/>
            <a:ext cx="9716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CuadroTexto"/>
          <p:cNvSpPr/>
          <p:nvPr/>
        </p:nvSpPr>
        <p:spPr>
          <a:xfrm>
            <a:off x="2021760" y="71280"/>
            <a:ext cx="5822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omic Sans MS"/>
              </a:rPr>
              <a:t>¿Qué estudiar de las Vitamin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928800" y="714240"/>
            <a:ext cx="7500960" cy="585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Sinón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structura quí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Fuente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Absorción, transporte, met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ecanism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ecesidade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Deficiencias (avitamin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fectos tóx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10:10:02Z</dcterms:created>
  <dc:creator>Bj</dc:creator>
  <dc:description/>
  <dc:language>en-US</dc:language>
  <cp:lastModifiedBy>ali y facu</cp:lastModifiedBy>
  <dcterms:modified xsi:type="dcterms:W3CDTF">2014-12-14T13:25:16Z</dcterms:modified>
  <cp:revision>510</cp:revision>
  <dc:subject/>
  <dc:title>Diapositiva 1</dc:title>
</cp:coreProperties>
</file>